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0BA96-AA8F-4EFD-B3A0-EBA3B6556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6A97-A29E-4457-A7AD-6AE98441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80594-56BE-45CA-8B69-796669ED8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D0ECF-4235-4529-9F04-CB7774D5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DD4D4-6781-4392-895C-E263BDE5E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F117A-FC5A-412C-AD75-CB20487DE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6F434-DDE3-4E94-AD4B-6813B2749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96711-EE8F-46FE-9B46-3F0BED0F8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6AE0-E56C-4F27-AF3D-6B24E4D1B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132FA-472F-40BA-B0B4-A26D83BA8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7D9DE-7F8F-42EE-A5C6-5E4FD00CA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4847E-4F32-4AE5-9109-9799C111C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67A11-5A55-4EF4-A357-834DF65CD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F129-290E-4FBE-9D66-6B98B880F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6C0FD-91C1-4E31-8990-CA892801B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4A08D-2C78-4275-B0B5-BE349ABD7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1A976-8E0F-4509-88CC-EB658E50E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EC9A-381E-412A-BBBD-6630B275D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3041-FF57-4703-B041-81E5386A5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11F0-3120-4A7E-844E-644020054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886EE-EE03-4263-8C65-EC854D29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74C3-B533-4510-BC5F-435BEC83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0CEE-CD14-46E7-A7BD-B12DBE3E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3987-50D1-496D-A27E-DBE0F0F9E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52E3-E8DB-4D50-BD01-974B25BB2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6936-CE36-4F2D-9D9B-37254505B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3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c8c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3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Storm the Castle</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 Anderson</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uilding Plan</a:t>
            </a:r>
            <a:endParaRPr b="1" lang="en-US" sz="4400" spc="-1" strike="noStrike">
              <a:solidFill>
                <a:srgbClr val="0000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popsicle sticks,1 full roll of duct tape, 2 rubber ba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Make a square of popsicle sticks and duct tape the together to make the b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wo: Take two more popsicle sticks and make a triangle and duct tape them together and add the rubber bands to the top for good measure.</a:t>
            </a:r>
            <a:endParaRPr b="0" lang="en-US" sz="2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uilding Plan cont.</a:t>
            </a:r>
            <a:endParaRPr b="1" lang="en-US" sz="4400" spc="-1" strike="noStrike">
              <a:solidFill>
                <a:srgbClr val="000000"/>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Three: Attach the next popsicle stick to the point at the tallest point and make the pivot point as wel as attach the ar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Four: Break the remaining two popsicle sticks in half and pick one end of the arm to be the launch sac and make a box.</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la, you're done with this prototype.</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esting</a:t>
            </a:r>
            <a:endParaRPr b="1" lang="en-US" sz="44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target the launch at it, repeat several times until you have a fairly large data set and find where you went wrong it terms of was it your aim or did one part come loose. Reflect and improve on your design.</a:t>
            </a: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torm the Castle</a:t>
            </a:r>
            <a:endParaRPr b="1" lang="en-US" sz="4400" spc="-1" strike="noStrike">
              <a:solidFill>
                <a:srgbClr val="000000"/>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m the Castle is a challenge to : Design a device that uses only the energy of a falling counterweight to launch a projectile as far and accurately as possible. </a:t>
            </a:r>
            <a:endParaRPr b="0" lang="en-US" sz="32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esign Styles:</a:t>
            </a:r>
            <a:endParaRPr b="1" lang="en-US" sz="4400" spc="-1" strike="noStrike">
              <a:solidFill>
                <a:srgbClr val="000000"/>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1: Solid triangle base with pivot point in center of triangle going across both directions. Pros: quick, small, Cons: weak, unst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2: Square base lengthy arm. Pros: sturdy, effective Cons: time consuming, requires lots of force to get going.</a:t>
            </a:r>
            <a:endParaRPr b="0" lang="en-US" sz="3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rm</a:t>
            </a:r>
            <a:endParaRPr b="1" lang="en-US" sz="4400" spc="-1" strike="noStrike">
              <a:solidFill>
                <a:srgbClr val="000000"/>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m resembles a plank that drives across the pivot point. On one end you have the launch sac, and on the other is the triggering device (if attached directly) or the place where the load will land (if not directly attached).</a:t>
            </a:r>
            <a:endParaRPr b="0" lang="en-US" sz="3200" spc="-1" strike="noStrike">
              <a:solidFill>
                <a:srgbClr val="000000"/>
              </a:solidFill>
              <a:latin typeface="Arial"/>
            </a:endParaRPr>
          </a:p>
        </p:txBody>
      </p:sp>
      <p:pic>
        <p:nvPicPr>
          <p:cNvPr id="106" name="" descr=""/>
          <p:cNvPicPr/>
          <p:nvPr/>
        </p:nvPicPr>
        <p:blipFill>
          <a:blip r:embed="rId1"/>
          <a:stretch/>
        </p:blipFill>
        <p:spPr>
          <a:xfrm>
            <a:off x="6095880" y="4678200"/>
            <a:ext cx="2095560" cy="1970280"/>
          </a:xfrm>
          <a:prstGeom prst="rect">
            <a:avLst/>
          </a:prstGeom>
          <a:ln w="0">
            <a:noFill/>
          </a:ln>
        </p:spPr>
      </p:pic>
      <p:sp>
        <p:nvSpPr>
          <p:cNvPr id="107" name=""/>
          <p:cNvSpPr/>
          <p:nvPr/>
        </p:nvSpPr>
        <p:spPr>
          <a:xfrm>
            <a:off x="4749840" y="5378400"/>
            <a:ext cx="2459160" cy="865080"/>
          </a:xfrm>
          <a:custGeom>
            <a:avLst/>
            <a:gdLst/>
            <a:ahLst/>
            <a:rect l="l" t="t" r="r" b="b"/>
            <a:pathLst>
              <a:path w="6827" h="2402">
                <a:moveTo>
                  <a:pt x="18514" y="14942"/>
                </a:moveTo>
                <a:cubicBezTo>
                  <a:pt x="18494" y="15031"/>
                  <a:pt x="18471" y="15117"/>
                  <a:pt x="18435" y="15200"/>
                </a:cubicBezTo>
                <a:cubicBezTo>
                  <a:pt x="18413" y="15250"/>
                  <a:pt x="18417" y="15266"/>
                  <a:pt x="18415" y="15319"/>
                </a:cubicBezTo>
                <a:cubicBezTo>
                  <a:pt x="18411" y="15421"/>
                  <a:pt x="18424" y="15527"/>
                  <a:pt x="18435" y="15617"/>
                </a:cubicBezTo>
                <a:cubicBezTo>
                  <a:pt x="18443" y="15680"/>
                  <a:pt x="18423" y="15741"/>
                  <a:pt x="18455" y="15776"/>
                </a:cubicBezTo>
                <a:cubicBezTo>
                  <a:pt x="18484" y="15808"/>
                  <a:pt x="18533" y="15804"/>
                  <a:pt x="18574" y="15815"/>
                </a:cubicBezTo>
                <a:cubicBezTo>
                  <a:pt x="18614" y="15826"/>
                  <a:pt x="18667" y="15843"/>
                  <a:pt x="18713" y="15855"/>
                </a:cubicBezTo>
                <a:cubicBezTo>
                  <a:pt x="18765" y="15869"/>
                  <a:pt x="18815" y="15873"/>
                  <a:pt x="18871" y="15875"/>
                </a:cubicBezTo>
                <a:cubicBezTo>
                  <a:pt x="18917" y="15877"/>
                  <a:pt x="18946" y="15890"/>
                  <a:pt x="18990" y="15895"/>
                </a:cubicBezTo>
                <a:cubicBezTo>
                  <a:pt x="19024" y="15899"/>
                  <a:pt x="19065" y="15912"/>
                  <a:pt x="19090" y="15915"/>
                </a:cubicBezTo>
                <a:cubicBezTo>
                  <a:pt x="19134" y="15921"/>
                  <a:pt x="19144" y="15917"/>
                  <a:pt x="19189" y="15935"/>
                </a:cubicBezTo>
                <a:cubicBezTo>
                  <a:pt x="19214" y="15945"/>
                  <a:pt x="19243" y="15944"/>
                  <a:pt x="19268" y="15954"/>
                </a:cubicBezTo>
                <a:cubicBezTo>
                  <a:pt x="19297" y="15966"/>
                  <a:pt x="19339" y="15962"/>
                  <a:pt x="19368" y="15974"/>
                </a:cubicBezTo>
                <a:cubicBezTo>
                  <a:pt x="19386" y="15982"/>
                  <a:pt x="19421" y="16008"/>
                  <a:pt x="19467" y="16014"/>
                </a:cubicBezTo>
                <a:cubicBezTo>
                  <a:pt x="19496" y="16018"/>
                  <a:pt x="19564" y="16034"/>
                  <a:pt x="19566" y="16034"/>
                </a:cubicBezTo>
                <a:cubicBezTo>
                  <a:pt x="19606" y="16039"/>
                  <a:pt x="19610" y="16037"/>
                  <a:pt x="19645" y="16054"/>
                </a:cubicBezTo>
                <a:cubicBezTo>
                  <a:pt x="19661" y="16062"/>
                  <a:pt x="19703" y="16085"/>
                  <a:pt x="19725" y="16073"/>
                </a:cubicBezTo>
                <a:cubicBezTo>
                  <a:pt x="19770" y="16050"/>
                  <a:pt x="19799" y="15950"/>
                  <a:pt x="19824" y="15895"/>
                </a:cubicBezTo>
                <a:cubicBezTo>
                  <a:pt x="19850" y="15839"/>
                  <a:pt x="19871" y="15788"/>
                  <a:pt x="19903" y="15736"/>
                </a:cubicBezTo>
                <a:cubicBezTo>
                  <a:pt x="19917" y="15712"/>
                  <a:pt x="19929" y="15636"/>
                  <a:pt x="19943" y="15617"/>
                </a:cubicBezTo>
                <a:cubicBezTo>
                  <a:pt x="19957" y="15599"/>
                  <a:pt x="19970" y="15603"/>
                  <a:pt x="19983" y="15577"/>
                </a:cubicBezTo>
                <a:cubicBezTo>
                  <a:pt x="19991" y="15560"/>
                  <a:pt x="19989" y="15537"/>
                  <a:pt x="20002" y="15518"/>
                </a:cubicBezTo>
                <a:cubicBezTo>
                  <a:pt x="20022" y="15518"/>
                  <a:pt x="20029" y="15518"/>
                  <a:pt x="20022" y="15498"/>
                </a:cubicBezTo>
              </a:path>
              <a:path w="6827" h="2402">
                <a:moveTo>
                  <a:pt x="19129" y="15915"/>
                </a:moveTo>
                <a:cubicBezTo>
                  <a:pt x="19082" y="16001"/>
                  <a:pt x="19028" y="16088"/>
                  <a:pt x="18971" y="16173"/>
                </a:cubicBezTo>
                <a:cubicBezTo>
                  <a:pt x="18885" y="16301"/>
                  <a:pt x="18809" y="16451"/>
                  <a:pt x="18713" y="16570"/>
                </a:cubicBezTo>
                <a:cubicBezTo>
                  <a:pt x="18639" y="16662"/>
                  <a:pt x="18549" y="16723"/>
                  <a:pt x="18455" y="16788"/>
                </a:cubicBezTo>
                <a:cubicBezTo>
                  <a:pt x="18326" y="16877"/>
                  <a:pt x="18207" y="16906"/>
                  <a:pt x="18058" y="16966"/>
                </a:cubicBezTo>
                <a:cubicBezTo>
                  <a:pt x="17890" y="17034"/>
                  <a:pt x="17720" y="17103"/>
                  <a:pt x="17542" y="17145"/>
                </a:cubicBezTo>
                <a:cubicBezTo>
                  <a:pt x="17383" y="17183"/>
                  <a:pt x="17202" y="17246"/>
                  <a:pt x="17046" y="17264"/>
                </a:cubicBezTo>
                <a:cubicBezTo>
                  <a:pt x="16940" y="17276"/>
                  <a:pt x="16831" y="17294"/>
                  <a:pt x="16728" y="17304"/>
                </a:cubicBezTo>
                <a:cubicBezTo>
                  <a:pt x="16658" y="17311"/>
                  <a:pt x="16597" y="17311"/>
                  <a:pt x="16530" y="17324"/>
                </a:cubicBezTo>
                <a:cubicBezTo>
                  <a:pt x="16469" y="17336"/>
                  <a:pt x="16417" y="17342"/>
                  <a:pt x="16351" y="17343"/>
                </a:cubicBezTo>
                <a:cubicBezTo>
                  <a:pt x="16242" y="17345"/>
                  <a:pt x="16137" y="17341"/>
                  <a:pt x="16034" y="17324"/>
                </a:cubicBezTo>
                <a:cubicBezTo>
                  <a:pt x="15949" y="17310"/>
                  <a:pt x="15881" y="17283"/>
                  <a:pt x="15796" y="17264"/>
                </a:cubicBezTo>
                <a:cubicBezTo>
                  <a:pt x="15715" y="17246"/>
                  <a:pt x="15639" y="17225"/>
                  <a:pt x="15558" y="17205"/>
                </a:cubicBezTo>
                <a:cubicBezTo>
                  <a:pt x="15491" y="17189"/>
                  <a:pt x="15426" y="17163"/>
                  <a:pt x="15359" y="17145"/>
                </a:cubicBezTo>
                <a:cubicBezTo>
                  <a:pt x="15310" y="17132"/>
                  <a:pt x="15265" y="17117"/>
                  <a:pt x="15220" y="17105"/>
                </a:cubicBezTo>
                <a:cubicBezTo>
                  <a:pt x="15172" y="17092"/>
                  <a:pt x="15186" y="17098"/>
                  <a:pt x="15141" y="17085"/>
                </a:cubicBezTo>
                <a:cubicBezTo>
                  <a:pt x="15116" y="17078"/>
                  <a:pt x="15107" y="17072"/>
                  <a:pt x="15081" y="17066"/>
                </a:cubicBezTo>
              </a:path>
              <a:path w="6827" h="2402">
                <a:moveTo>
                  <a:pt x="14288" y="16212"/>
                </a:moveTo>
                <a:cubicBezTo>
                  <a:pt x="14256" y="16208"/>
                  <a:pt x="14195" y="16174"/>
                  <a:pt x="14188" y="16173"/>
                </a:cubicBezTo>
                <a:cubicBezTo>
                  <a:pt x="14143" y="16166"/>
                  <a:pt x="14107" y="16142"/>
                  <a:pt x="14069" y="16133"/>
                </a:cubicBezTo>
                <a:cubicBezTo>
                  <a:pt x="14008" y="16119"/>
                  <a:pt x="13946" y="16137"/>
                  <a:pt x="13891" y="16153"/>
                </a:cubicBezTo>
                <a:cubicBezTo>
                  <a:pt x="13780" y="16185"/>
                  <a:pt x="13692" y="16215"/>
                  <a:pt x="13593" y="16272"/>
                </a:cubicBezTo>
                <a:cubicBezTo>
                  <a:pt x="13525" y="16311"/>
                  <a:pt x="13461" y="16351"/>
                  <a:pt x="13395" y="16391"/>
                </a:cubicBezTo>
                <a:cubicBezTo>
                  <a:pt x="13330" y="16430"/>
                  <a:pt x="13343" y="16427"/>
                  <a:pt x="13295" y="16490"/>
                </a:cubicBezTo>
                <a:cubicBezTo>
                  <a:pt x="13259" y="16537"/>
                  <a:pt x="13223" y="16554"/>
                  <a:pt x="13216" y="16609"/>
                </a:cubicBezTo>
                <a:cubicBezTo>
                  <a:pt x="13209" y="16665"/>
                  <a:pt x="13203" y="16654"/>
                  <a:pt x="13196" y="16689"/>
                </a:cubicBezTo>
                <a:cubicBezTo>
                  <a:pt x="13190" y="16719"/>
                  <a:pt x="13205" y="16756"/>
                  <a:pt x="13236" y="16768"/>
                </a:cubicBezTo>
                <a:cubicBezTo>
                  <a:pt x="13363" y="16817"/>
                  <a:pt x="13757" y="16799"/>
                  <a:pt x="13871" y="16748"/>
                </a:cubicBezTo>
                <a:cubicBezTo>
                  <a:pt x="13899" y="16736"/>
                  <a:pt x="13927" y="16733"/>
                  <a:pt x="13950" y="16708"/>
                </a:cubicBezTo>
                <a:cubicBezTo>
                  <a:pt x="13974" y="16682"/>
                  <a:pt x="13974" y="16616"/>
                  <a:pt x="13990" y="16589"/>
                </a:cubicBezTo>
                <a:cubicBezTo>
                  <a:pt x="14023" y="16536"/>
                  <a:pt x="14059" y="16490"/>
                  <a:pt x="14089" y="16431"/>
                </a:cubicBezTo>
                <a:cubicBezTo>
                  <a:pt x="14111" y="16387"/>
                  <a:pt x="14137" y="16315"/>
                  <a:pt x="14149" y="16272"/>
                </a:cubicBezTo>
                <a:cubicBezTo>
                  <a:pt x="14162" y="16225"/>
                  <a:pt x="14177" y="16161"/>
                  <a:pt x="14188" y="16113"/>
                </a:cubicBezTo>
                <a:cubicBezTo>
                  <a:pt x="14197" y="16074"/>
                  <a:pt x="14205" y="16054"/>
                  <a:pt x="14208" y="16014"/>
                </a:cubicBezTo>
                <a:cubicBezTo>
                  <a:pt x="14208" y="16007"/>
                  <a:pt x="14208" y="16001"/>
                  <a:pt x="14208" y="15994"/>
                </a:cubicBezTo>
                <a:cubicBezTo>
                  <a:pt x="14208" y="16071"/>
                  <a:pt x="14208" y="16137"/>
                  <a:pt x="14188" y="16212"/>
                </a:cubicBezTo>
                <a:cubicBezTo>
                  <a:pt x="14163" y="16308"/>
                  <a:pt x="14149" y="16390"/>
                  <a:pt x="14149" y="16490"/>
                </a:cubicBezTo>
                <a:cubicBezTo>
                  <a:pt x="14149" y="16602"/>
                  <a:pt x="14106" y="16907"/>
                  <a:pt x="14168" y="16986"/>
                </a:cubicBezTo>
                <a:cubicBezTo>
                  <a:pt x="14184" y="17006"/>
                  <a:pt x="14185" y="17011"/>
                  <a:pt x="14188" y="17046"/>
                </a:cubicBezTo>
                <a:cubicBezTo>
                  <a:pt x="14188" y="17053"/>
                  <a:pt x="14188" y="17059"/>
                  <a:pt x="14188" y="17066"/>
                </a:cubicBezTo>
              </a:path>
              <a:path w="6827" h="2402">
                <a:moveTo>
                  <a:pt x="14585" y="16589"/>
                </a:moveTo>
                <a:cubicBezTo>
                  <a:pt x="14585" y="16382"/>
                  <a:pt x="14566" y="16147"/>
                  <a:pt x="14605" y="15954"/>
                </a:cubicBezTo>
                <a:cubicBezTo>
                  <a:pt x="14613" y="15916"/>
                  <a:pt x="14613" y="15914"/>
                  <a:pt x="14625" y="15895"/>
                </a:cubicBezTo>
                <a:cubicBezTo>
                  <a:pt x="14625" y="15935"/>
                  <a:pt x="14625" y="15934"/>
                  <a:pt x="14625" y="15974"/>
                </a:cubicBezTo>
                <a:cubicBezTo>
                  <a:pt x="14625" y="16146"/>
                  <a:pt x="14617" y="16370"/>
                  <a:pt x="14645" y="16510"/>
                </a:cubicBezTo>
                <a:cubicBezTo>
                  <a:pt x="14649" y="16529"/>
                  <a:pt x="14642" y="16551"/>
                  <a:pt x="14645" y="16570"/>
                </a:cubicBezTo>
                <a:cubicBezTo>
                  <a:pt x="14641" y="16523"/>
                  <a:pt x="14643" y="16474"/>
                  <a:pt x="14625" y="16431"/>
                </a:cubicBezTo>
                <a:cubicBezTo>
                  <a:pt x="14606" y="16387"/>
                  <a:pt x="14588" y="16345"/>
                  <a:pt x="14585" y="16292"/>
                </a:cubicBezTo>
                <a:cubicBezTo>
                  <a:pt x="14582" y="16244"/>
                  <a:pt x="14576" y="16190"/>
                  <a:pt x="14605" y="16153"/>
                </a:cubicBezTo>
                <a:cubicBezTo>
                  <a:pt x="14620" y="16134"/>
                  <a:pt x="14639" y="16102"/>
                  <a:pt x="14665" y="16073"/>
                </a:cubicBezTo>
                <a:cubicBezTo>
                  <a:pt x="14691" y="16044"/>
                  <a:pt x="14700" y="16020"/>
                  <a:pt x="14724" y="15994"/>
                </a:cubicBezTo>
                <a:cubicBezTo>
                  <a:pt x="14746" y="15969"/>
                  <a:pt x="14776" y="15967"/>
                  <a:pt x="14803" y="15954"/>
                </a:cubicBezTo>
                <a:cubicBezTo>
                  <a:pt x="14865" y="15924"/>
                  <a:pt x="14880" y="15919"/>
                  <a:pt x="14942" y="15895"/>
                </a:cubicBezTo>
                <a:cubicBezTo>
                  <a:pt x="14974" y="15883"/>
                  <a:pt x="15010" y="15868"/>
                  <a:pt x="15042" y="15855"/>
                </a:cubicBezTo>
                <a:cubicBezTo>
                  <a:pt x="15082" y="15839"/>
                  <a:pt x="15111" y="15835"/>
                  <a:pt x="15161" y="15835"/>
                </a:cubicBezTo>
                <a:cubicBezTo>
                  <a:pt x="15181" y="15835"/>
                  <a:pt x="15200" y="15835"/>
                  <a:pt x="15220" y="15835"/>
                </a:cubicBezTo>
              </a:path>
              <a:path w="6827" h="2402">
                <a:moveTo>
                  <a:pt x="15339" y="16609"/>
                </a:moveTo>
                <a:cubicBezTo>
                  <a:pt x="15339" y="16449"/>
                  <a:pt x="15301" y="16224"/>
                  <a:pt x="15359" y="16073"/>
                </a:cubicBezTo>
                <a:cubicBezTo>
                  <a:pt x="15378" y="16023"/>
                  <a:pt x="15387" y="15959"/>
                  <a:pt x="15419" y="15915"/>
                </a:cubicBezTo>
                <a:cubicBezTo>
                  <a:pt x="15438" y="15889"/>
                  <a:pt x="15470" y="15865"/>
                  <a:pt x="15478" y="15835"/>
                </a:cubicBezTo>
                <a:cubicBezTo>
                  <a:pt x="15489" y="15795"/>
                  <a:pt x="15479" y="15819"/>
                  <a:pt x="15498" y="15796"/>
                </a:cubicBezTo>
                <a:cubicBezTo>
                  <a:pt x="15498" y="15873"/>
                  <a:pt x="15489" y="15942"/>
                  <a:pt x="15478" y="16014"/>
                </a:cubicBezTo>
                <a:cubicBezTo>
                  <a:pt x="15471" y="16056"/>
                  <a:pt x="15460" y="16090"/>
                  <a:pt x="15458" y="16133"/>
                </a:cubicBezTo>
                <a:cubicBezTo>
                  <a:pt x="15456" y="16177"/>
                  <a:pt x="15444" y="16161"/>
                  <a:pt x="15438" y="16192"/>
                </a:cubicBezTo>
                <a:cubicBezTo>
                  <a:pt x="15430" y="16233"/>
                  <a:pt x="15418" y="16248"/>
                  <a:pt x="15399" y="16292"/>
                </a:cubicBezTo>
                <a:cubicBezTo>
                  <a:pt x="15382" y="16331"/>
                  <a:pt x="15391" y="16347"/>
                  <a:pt x="15379" y="16391"/>
                </a:cubicBezTo>
                <a:cubicBezTo>
                  <a:pt x="15371" y="16419"/>
                  <a:pt x="15347" y="16422"/>
                  <a:pt x="15339" y="16450"/>
                </a:cubicBezTo>
                <a:cubicBezTo>
                  <a:pt x="15326" y="16499"/>
                  <a:pt x="15339" y="16578"/>
                  <a:pt x="15339" y="16629"/>
                </a:cubicBezTo>
                <a:cubicBezTo>
                  <a:pt x="15352" y="16589"/>
                  <a:pt x="15357" y="16559"/>
                  <a:pt x="15359" y="16510"/>
                </a:cubicBezTo>
                <a:cubicBezTo>
                  <a:pt x="15362" y="16428"/>
                  <a:pt x="15346" y="16347"/>
                  <a:pt x="15379" y="16272"/>
                </a:cubicBezTo>
                <a:cubicBezTo>
                  <a:pt x="15390" y="16247"/>
                  <a:pt x="15387" y="16193"/>
                  <a:pt x="15399" y="16173"/>
                </a:cubicBezTo>
                <a:cubicBezTo>
                  <a:pt x="15417" y="16142"/>
                  <a:pt x="15424" y="16127"/>
                  <a:pt x="15438" y="16093"/>
                </a:cubicBezTo>
                <a:cubicBezTo>
                  <a:pt x="15443" y="16081"/>
                  <a:pt x="15472" y="16019"/>
                  <a:pt x="15478" y="16014"/>
                </a:cubicBezTo>
                <a:cubicBezTo>
                  <a:pt x="15489" y="16004"/>
                  <a:pt x="15541" y="15983"/>
                  <a:pt x="15558" y="15974"/>
                </a:cubicBezTo>
                <a:cubicBezTo>
                  <a:pt x="15595" y="15955"/>
                  <a:pt x="15609" y="15956"/>
                  <a:pt x="15657" y="15954"/>
                </a:cubicBezTo>
                <a:cubicBezTo>
                  <a:pt x="15703" y="15952"/>
                  <a:pt x="15736" y="15948"/>
                  <a:pt x="15756" y="15974"/>
                </a:cubicBezTo>
                <a:cubicBezTo>
                  <a:pt x="15778" y="16003"/>
                  <a:pt x="15807" y="16055"/>
                  <a:pt x="15815" y="16093"/>
                </a:cubicBezTo>
                <a:cubicBezTo>
                  <a:pt x="15848" y="16244"/>
                  <a:pt x="15814" y="16441"/>
                  <a:pt x="15796" y="16589"/>
                </a:cubicBezTo>
                <a:cubicBezTo>
                  <a:pt x="15788" y="16653"/>
                  <a:pt x="15796" y="16723"/>
                  <a:pt x="15796" y="16788"/>
                </a:cubicBezTo>
                <a:cubicBezTo>
                  <a:pt x="15796" y="16629"/>
                  <a:pt x="15737" y="16312"/>
                  <a:pt x="15815" y="16173"/>
                </a:cubicBezTo>
                <a:cubicBezTo>
                  <a:pt x="15829" y="16148"/>
                  <a:pt x="15864" y="16101"/>
                  <a:pt x="15875" y="16093"/>
                </a:cubicBezTo>
                <a:cubicBezTo>
                  <a:pt x="15890" y="16083"/>
                  <a:pt x="15957" y="16057"/>
                  <a:pt x="15974" y="16054"/>
                </a:cubicBezTo>
                <a:cubicBezTo>
                  <a:pt x="16002" y="16048"/>
                  <a:pt x="16048" y="16037"/>
                  <a:pt x="16073" y="16034"/>
                </a:cubicBezTo>
                <a:cubicBezTo>
                  <a:pt x="16121" y="16028"/>
                  <a:pt x="16125" y="16048"/>
                  <a:pt x="16153" y="16054"/>
                </a:cubicBezTo>
                <a:cubicBezTo>
                  <a:pt x="16188" y="16061"/>
                  <a:pt x="16199" y="16088"/>
                  <a:pt x="16212" y="16093"/>
                </a:cubicBezTo>
                <a:cubicBezTo>
                  <a:pt x="16273" y="16117"/>
                  <a:pt x="16223" y="16088"/>
                  <a:pt x="16272" y="16153"/>
                </a:cubicBezTo>
                <a:cubicBezTo>
                  <a:pt x="16284" y="16169"/>
                  <a:pt x="16297" y="16199"/>
                  <a:pt x="16312" y="16232"/>
                </a:cubicBezTo>
                <a:cubicBezTo>
                  <a:pt x="16339" y="16294"/>
                  <a:pt x="16347" y="16348"/>
                  <a:pt x="16371" y="16411"/>
                </a:cubicBezTo>
                <a:cubicBezTo>
                  <a:pt x="16388" y="16455"/>
                  <a:pt x="16421" y="16504"/>
                  <a:pt x="16431" y="16550"/>
                </a:cubicBezTo>
                <a:cubicBezTo>
                  <a:pt x="16439" y="16586"/>
                  <a:pt x="16446" y="16634"/>
                  <a:pt x="16450" y="16669"/>
                </a:cubicBezTo>
                <a:cubicBezTo>
                  <a:pt x="16461" y="16772"/>
                  <a:pt x="16450" y="16882"/>
                  <a:pt x="16450" y="16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ivot Point</a:t>
            </a:r>
            <a:endParaRPr b="1" lang="en-US" sz="4400" spc="-1" strike="noStrike">
              <a:solidFill>
                <a:srgbClr val="000000"/>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vot point is the point where the arm rests and depending where you position this will effect your catapult launch ability.</a:t>
            </a:r>
            <a:endParaRPr b="0" lang="en-US" sz="3200" spc="-1" strike="noStrike">
              <a:solidFill>
                <a:srgbClr val="000000"/>
              </a:solidFill>
              <a:latin typeface="Arial"/>
            </a:endParaRPr>
          </a:p>
        </p:txBody>
      </p:sp>
      <p:pic>
        <p:nvPicPr>
          <p:cNvPr id="110" name="" descr=""/>
          <p:cNvPicPr/>
          <p:nvPr/>
        </p:nvPicPr>
        <p:blipFill>
          <a:blip r:embed="rId1"/>
          <a:stretch/>
        </p:blipFill>
        <p:spPr>
          <a:xfrm>
            <a:off x="2895480" y="3657600"/>
            <a:ext cx="2857680" cy="2685960"/>
          </a:xfrm>
          <a:prstGeom prst="rect">
            <a:avLst/>
          </a:prstGeom>
          <a:ln w="0">
            <a:noFill/>
          </a:ln>
        </p:spPr>
      </p:pic>
      <p:sp>
        <p:nvSpPr>
          <p:cNvPr id="111" name=""/>
          <p:cNvSpPr/>
          <p:nvPr/>
        </p:nvSpPr>
        <p:spPr>
          <a:xfrm>
            <a:off x="6229440" y="4951440"/>
            <a:ext cx="914400" cy="557280"/>
          </a:xfrm>
          <a:custGeom>
            <a:avLst/>
            <a:gdLst/>
            <a:ahLst/>
            <a:rect l="l" t="t" r="r" b="b"/>
            <a:pathLst>
              <a:path w="2541" h="1549">
                <a:moveTo>
                  <a:pt x="17304" y="13752"/>
                </a:moveTo>
                <a:lnTo>
                  <a:pt x="17304" y="13752"/>
                </a:lnTo>
              </a:path>
              <a:path w="2541" h="1549">
                <a:moveTo>
                  <a:pt x="19844" y="15300"/>
                </a:moveTo>
                <a:lnTo>
                  <a:pt x="19844" y="1530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700520" y="4843440"/>
            <a:ext cx="2622600" cy="1014480"/>
          </a:xfrm>
          <a:custGeom>
            <a:avLst/>
            <a:gdLst/>
            <a:ahLst/>
            <a:rect l="l" t="t" r="r" b="b"/>
            <a:pathLst>
              <a:path w="7284" h="2819">
                <a:moveTo>
                  <a:pt x="13077" y="14288"/>
                </a:moveTo>
                <a:cubicBezTo>
                  <a:pt x="13074" y="14356"/>
                  <a:pt x="13061" y="14423"/>
                  <a:pt x="13057" y="14486"/>
                </a:cubicBezTo>
                <a:cubicBezTo>
                  <a:pt x="13043" y="14731"/>
                  <a:pt x="13033" y="15030"/>
                  <a:pt x="13077" y="15260"/>
                </a:cubicBezTo>
                <a:cubicBezTo>
                  <a:pt x="13083" y="15294"/>
                  <a:pt x="13085" y="15327"/>
                  <a:pt x="13097" y="15359"/>
                </a:cubicBezTo>
                <a:cubicBezTo>
                  <a:pt x="13111" y="15397"/>
                  <a:pt x="13122" y="15439"/>
                  <a:pt x="13137" y="15478"/>
                </a:cubicBezTo>
                <a:cubicBezTo>
                  <a:pt x="13153" y="15520"/>
                  <a:pt x="13203" y="15556"/>
                  <a:pt x="13216" y="15597"/>
                </a:cubicBezTo>
                <a:cubicBezTo>
                  <a:pt x="13240" y="15673"/>
                  <a:pt x="13257" y="15691"/>
                  <a:pt x="13295" y="15756"/>
                </a:cubicBezTo>
                <a:cubicBezTo>
                  <a:pt x="13329" y="15813"/>
                  <a:pt x="13352" y="15845"/>
                  <a:pt x="13395" y="15895"/>
                </a:cubicBezTo>
                <a:cubicBezTo>
                  <a:pt x="13431" y="15936"/>
                  <a:pt x="13478" y="15966"/>
                  <a:pt x="13514" y="15994"/>
                </a:cubicBezTo>
                <a:cubicBezTo>
                  <a:pt x="13548" y="16021"/>
                  <a:pt x="13599" y="16034"/>
                  <a:pt x="13633" y="16054"/>
                </a:cubicBezTo>
                <a:cubicBezTo>
                  <a:pt x="13687" y="16086"/>
                  <a:pt x="13738" y="16111"/>
                  <a:pt x="13791" y="16133"/>
                </a:cubicBezTo>
                <a:cubicBezTo>
                  <a:pt x="13842" y="16154"/>
                  <a:pt x="13880" y="16170"/>
                  <a:pt x="13930" y="16192"/>
                </a:cubicBezTo>
                <a:cubicBezTo>
                  <a:pt x="13979" y="16214"/>
                  <a:pt x="14020" y="16238"/>
                  <a:pt x="14069" y="16252"/>
                </a:cubicBezTo>
                <a:cubicBezTo>
                  <a:pt x="14114" y="16265"/>
                  <a:pt x="14160" y="16268"/>
                  <a:pt x="14208" y="16272"/>
                </a:cubicBezTo>
                <a:cubicBezTo>
                  <a:pt x="14453" y="16292"/>
                  <a:pt x="14708" y="16276"/>
                  <a:pt x="14942" y="16232"/>
                </a:cubicBezTo>
                <a:cubicBezTo>
                  <a:pt x="14996" y="16222"/>
                  <a:pt x="15047" y="16222"/>
                  <a:pt x="15101" y="16212"/>
                </a:cubicBezTo>
                <a:cubicBezTo>
                  <a:pt x="15148" y="16204"/>
                  <a:pt x="15194" y="16200"/>
                  <a:pt x="15240" y="16192"/>
                </a:cubicBezTo>
                <a:cubicBezTo>
                  <a:pt x="15294" y="16183"/>
                  <a:pt x="15327" y="16161"/>
                  <a:pt x="15379" y="16153"/>
                </a:cubicBezTo>
                <a:cubicBezTo>
                  <a:pt x="15439" y="16143"/>
                  <a:pt x="15500" y="16143"/>
                  <a:pt x="15558" y="16133"/>
                </a:cubicBezTo>
                <a:cubicBezTo>
                  <a:pt x="15596" y="16126"/>
                  <a:pt x="15623" y="16120"/>
                  <a:pt x="15657" y="16113"/>
                </a:cubicBezTo>
                <a:cubicBezTo>
                  <a:pt x="15688" y="16106"/>
                  <a:pt x="15707" y="16103"/>
                  <a:pt x="15736" y="16093"/>
                </a:cubicBezTo>
                <a:cubicBezTo>
                  <a:pt x="15759" y="16085"/>
                  <a:pt x="15794" y="16084"/>
                  <a:pt x="15815" y="16073"/>
                </a:cubicBezTo>
                <a:cubicBezTo>
                  <a:pt x="15822" y="16070"/>
                  <a:pt x="15854" y="16044"/>
                  <a:pt x="15875" y="16034"/>
                </a:cubicBezTo>
                <a:cubicBezTo>
                  <a:pt x="15903" y="16021"/>
                  <a:pt x="15944" y="15980"/>
                  <a:pt x="15954" y="15974"/>
                </a:cubicBezTo>
                <a:cubicBezTo>
                  <a:pt x="15994" y="15951"/>
                  <a:pt x="16029" y="15942"/>
                  <a:pt x="16073" y="15915"/>
                </a:cubicBezTo>
                <a:cubicBezTo>
                  <a:pt x="16111" y="15892"/>
                  <a:pt x="16128" y="15876"/>
                  <a:pt x="16173" y="15855"/>
                </a:cubicBezTo>
                <a:cubicBezTo>
                  <a:pt x="16200" y="15843"/>
                  <a:pt x="16242" y="15802"/>
                  <a:pt x="16252" y="15796"/>
                </a:cubicBezTo>
                <a:cubicBezTo>
                  <a:pt x="16291" y="15774"/>
                  <a:pt x="16313" y="15765"/>
                  <a:pt x="16351" y="15736"/>
                </a:cubicBezTo>
                <a:cubicBezTo>
                  <a:pt x="16384" y="15710"/>
                  <a:pt x="16399" y="15670"/>
                  <a:pt x="16431" y="15637"/>
                </a:cubicBezTo>
                <a:cubicBezTo>
                  <a:pt x="16469" y="15597"/>
                  <a:pt x="16497" y="15560"/>
                  <a:pt x="16530" y="15518"/>
                </a:cubicBezTo>
                <a:cubicBezTo>
                  <a:pt x="16561" y="15479"/>
                  <a:pt x="16605" y="15451"/>
                  <a:pt x="16629" y="15419"/>
                </a:cubicBezTo>
                <a:cubicBezTo>
                  <a:pt x="16663" y="15374"/>
                  <a:pt x="16669" y="15347"/>
                  <a:pt x="16708" y="15300"/>
                </a:cubicBezTo>
                <a:cubicBezTo>
                  <a:pt x="16749" y="15251"/>
                  <a:pt x="16797" y="15203"/>
                  <a:pt x="16828" y="15161"/>
                </a:cubicBezTo>
                <a:cubicBezTo>
                  <a:pt x="16849" y="15132"/>
                  <a:pt x="16852" y="15120"/>
                  <a:pt x="16867" y="15101"/>
                </a:cubicBezTo>
                <a:cubicBezTo>
                  <a:pt x="16884" y="15080"/>
                  <a:pt x="16898" y="15072"/>
                  <a:pt x="16907" y="15061"/>
                </a:cubicBezTo>
              </a:path>
              <a:path w="7284" h="2819">
                <a:moveTo>
                  <a:pt x="16570" y="14367"/>
                </a:moveTo>
                <a:cubicBezTo>
                  <a:pt x="16574" y="14320"/>
                  <a:pt x="16565" y="14297"/>
                  <a:pt x="16589" y="14248"/>
                </a:cubicBezTo>
                <a:cubicBezTo>
                  <a:pt x="16609" y="14207"/>
                  <a:pt x="16609" y="14179"/>
                  <a:pt x="16609" y="14129"/>
                </a:cubicBezTo>
                <a:cubicBezTo>
                  <a:pt x="16609" y="14076"/>
                  <a:pt x="16639" y="14051"/>
                  <a:pt x="16649" y="14010"/>
                </a:cubicBezTo>
                <a:cubicBezTo>
                  <a:pt x="16658" y="13973"/>
                  <a:pt x="16665" y="13901"/>
                  <a:pt x="16669" y="13871"/>
                </a:cubicBezTo>
                <a:cubicBezTo>
                  <a:pt x="16688" y="13746"/>
                  <a:pt x="16669" y="13601"/>
                  <a:pt x="16669" y="13474"/>
                </a:cubicBezTo>
                <a:cubicBezTo>
                  <a:pt x="16830" y="13474"/>
                  <a:pt x="17037" y="13477"/>
                  <a:pt x="17165" y="13454"/>
                </a:cubicBezTo>
                <a:cubicBezTo>
                  <a:pt x="17185" y="13454"/>
                  <a:pt x="17192" y="13454"/>
                  <a:pt x="17205" y="13454"/>
                </a:cubicBezTo>
                <a:cubicBezTo>
                  <a:pt x="17205" y="13518"/>
                  <a:pt x="17193" y="13580"/>
                  <a:pt x="17185" y="13633"/>
                </a:cubicBezTo>
                <a:cubicBezTo>
                  <a:pt x="17177" y="13686"/>
                  <a:pt x="17184" y="13693"/>
                  <a:pt x="17145" y="13732"/>
                </a:cubicBezTo>
                <a:cubicBezTo>
                  <a:pt x="17132" y="13745"/>
                  <a:pt x="17102" y="13782"/>
                  <a:pt x="17085" y="13811"/>
                </a:cubicBezTo>
                <a:cubicBezTo>
                  <a:pt x="17072" y="13834"/>
                  <a:pt x="17059" y="13857"/>
                  <a:pt x="17046" y="13871"/>
                </a:cubicBezTo>
                <a:cubicBezTo>
                  <a:pt x="17021" y="13896"/>
                  <a:pt x="16994" y="13896"/>
                  <a:pt x="16966" y="13910"/>
                </a:cubicBezTo>
                <a:cubicBezTo>
                  <a:pt x="16947" y="13919"/>
                  <a:pt x="16885" y="13947"/>
                  <a:pt x="16867" y="13950"/>
                </a:cubicBezTo>
                <a:cubicBezTo>
                  <a:pt x="16806" y="13959"/>
                  <a:pt x="16719" y="13935"/>
                  <a:pt x="16689" y="13930"/>
                </a:cubicBezTo>
                <a:cubicBezTo>
                  <a:pt x="16661" y="13925"/>
                  <a:pt x="16591" y="13910"/>
                  <a:pt x="16589" y="13910"/>
                </a:cubicBezTo>
                <a:cubicBezTo>
                  <a:pt x="16583" y="13910"/>
                  <a:pt x="16576" y="13910"/>
                  <a:pt x="16570" y="13910"/>
                </a:cubicBezTo>
                <a:cubicBezTo>
                  <a:pt x="16658" y="13917"/>
                  <a:pt x="16741" y="13932"/>
                  <a:pt x="16828" y="13950"/>
                </a:cubicBezTo>
              </a:path>
              <a:path w="7284" h="2819">
                <a:moveTo>
                  <a:pt x="17165" y="14407"/>
                </a:moveTo>
                <a:cubicBezTo>
                  <a:pt x="17165" y="14336"/>
                  <a:pt x="17173" y="14274"/>
                  <a:pt x="17185" y="14208"/>
                </a:cubicBezTo>
                <a:cubicBezTo>
                  <a:pt x="17191" y="14172"/>
                  <a:pt x="17185" y="14126"/>
                  <a:pt x="17185" y="14089"/>
                </a:cubicBezTo>
                <a:cubicBezTo>
                  <a:pt x="17197" y="14081"/>
                  <a:pt x="17219" y="14039"/>
                  <a:pt x="17224" y="14030"/>
                </a:cubicBezTo>
                <a:cubicBezTo>
                  <a:pt x="17224" y="14023"/>
                  <a:pt x="17224" y="14017"/>
                  <a:pt x="17224" y="14010"/>
                </a:cubicBezTo>
              </a:path>
              <a:path w="7284" h="2819">
                <a:moveTo>
                  <a:pt x="17502" y="14069"/>
                </a:moveTo>
                <a:cubicBezTo>
                  <a:pt x="17502" y="14127"/>
                  <a:pt x="17512" y="14172"/>
                  <a:pt x="17522" y="14228"/>
                </a:cubicBezTo>
                <a:cubicBezTo>
                  <a:pt x="17528" y="14264"/>
                  <a:pt x="17558" y="14286"/>
                  <a:pt x="17562" y="14327"/>
                </a:cubicBezTo>
                <a:cubicBezTo>
                  <a:pt x="17565" y="14359"/>
                  <a:pt x="17593" y="14349"/>
                  <a:pt x="17601" y="14367"/>
                </a:cubicBezTo>
                <a:cubicBezTo>
                  <a:pt x="17617" y="14400"/>
                  <a:pt x="17588" y="14420"/>
                  <a:pt x="17641" y="14426"/>
                </a:cubicBezTo>
                <a:cubicBezTo>
                  <a:pt x="17663" y="14428"/>
                  <a:pt x="17767" y="14289"/>
                  <a:pt x="17780" y="14268"/>
                </a:cubicBezTo>
                <a:cubicBezTo>
                  <a:pt x="17825" y="14192"/>
                  <a:pt x="17856" y="14137"/>
                  <a:pt x="17919" y="14069"/>
                </a:cubicBezTo>
                <a:cubicBezTo>
                  <a:pt x="17961" y="14024"/>
                  <a:pt x="17996" y="13974"/>
                  <a:pt x="18038" y="13930"/>
                </a:cubicBezTo>
                <a:cubicBezTo>
                  <a:pt x="18063" y="13904"/>
                  <a:pt x="18095" y="13859"/>
                  <a:pt x="18117" y="13851"/>
                </a:cubicBezTo>
              </a:path>
              <a:path w="7284" h="2819">
                <a:moveTo>
                  <a:pt x="18276" y="14407"/>
                </a:moveTo>
                <a:cubicBezTo>
                  <a:pt x="18276" y="14326"/>
                  <a:pt x="18283" y="14219"/>
                  <a:pt x="18256" y="14168"/>
                </a:cubicBezTo>
                <a:cubicBezTo>
                  <a:pt x="18232" y="14122"/>
                  <a:pt x="18271" y="14027"/>
                  <a:pt x="18276" y="14010"/>
                </a:cubicBezTo>
                <a:cubicBezTo>
                  <a:pt x="18276" y="13997"/>
                  <a:pt x="18276" y="13983"/>
                  <a:pt x="18276" y="13970"/>
                </a:cubicBezTo>
                <a:cubicBezTo>
                  <a:pt x="18312" y="13970"/>
                  <a:pt x="18323" y="13952"/>
                  <a:pt x="18355" y="13950"/>
                </a:cubicBezTo>
                <a:cubicBezTo>
                  <a:pt x="18399" y="13947"/>
                  <a:pt x="18412" y="13930"/>
                  <a:pt x="18455" y="13930"/>
                </a:cubicBezTo>
                <a:cubicBezTo>
                  <a:pt x="18507" y="13930"/>
                  <a:pt x="18533" y="13941"/>
                  <a:pt x="18574" y="13950"/>
                </a:cubicBezTo>
                <a:cubicBezTo>
                  <a:pt x="18607" y="13950"/>
                  <a:pt x="18613" y="13950"/>
                  <a:pt x="18633" y="13950"/>
                </a:cubicBezTo>
                <a:cubicBezTo>
                  <a:pt x="18633" y="13991"/>
                  <a:pt x="18642" y="13997"/>
                  <a:pt x="18653" y="14030"/>
                </a:cubicBezTo>
                <a:cubicBezTo>
                  <a:pt x="18668" y="14075"/>
                  <a:pt x="18663" y="14215"/>
                  <a:pt x="18633" y="14248"/>
                </a:cubicBezTo>
                <a:cubicBezTo>
                  <a:pt x="18604" y="14280"/>
                  <a:pt x="18618" y="14339"/>
                  <a:pt x="18594" y="14367"/>
                </a:cubicBezTo>
                <a:cubicBezTo>
                  <a:pt x="18586" y="14377"/>
                  <a:pt x="18538" y="14399"/>
                  <a:pt x="18534" y="14407"/>
                </a:cubicBezTo>
                <a:cubicBezTo>
                  <a:pt x="18527" y="14420"/>
                  <a:pt x="18498" y="14441"/>
                  <a:pt x="18475" y="14446"/>
                </a:cubicBezTo>
                <a:cubicBezTo>
                  <a:pt x="18416" y="14459"/>
                  <a:pt x="18337" y="14446"/>
                  <a:pt x="18276" y="14446"/>
                </a:cubicBezTo>
              </a:path>
              <a:path w="7284" h="2819">
                <a:moveTo>
                  <a:pt x="19705" y="13553"/>
                </a:moveTo>
                <a:cubicBezTo>
                  <a:pt x="19705" y="13665"/>
                  <a:pt x="19688" y="13786"/>
                  <a:pt x="19645" y="13891"/>
                </a:cubicBezTo>
                <a:cubicBezTo>
                  <a:pt x="19614" y="13965"/>
                  <a:pt x="19598" y="14059"/>
                  <a:pt x="19566" y="14129"/>
                </a:cubicBezTo>
                <a:cubicBezTo>
                  <a:pt x="19545" y="14175"/>
                  <a:pt x="19515" y="14242"/>
                  <a:pt x="19506" y="14288"/>
                </a:cubicBezTo>
                <a:cubicBezTo>
                  <a:pt x="19499" y="14321"/>
                  <a:pt x="19472" y="14341"/>
                  <a:pt x="19467" y="14367"/>
                </a:cubicBezTo>
                <a:cubicBezTo>
                  <a:pt x="19455" y="14425"/>
                  <a:pt x="19443" y="14435"/>
                  <a:pt x="19427" y="14486"/>
                </a:cubicBezTo>
                <a:cubicBezTo>
                  <a:pt x="19416" y="14520"/>
                  <a:pt x="19395" y="14574"/>
                  <a:pt x="19387" y="14605"/>
                </a:cubicBezTo>
                <a:cubicBezTo>
                  <a:pt x="19377" y="14644"/>
                  <a:pt x="19393" y="14665"/>
                  <a:pt x="19368" y="14684"/>
                </a:cubicBezTo>
                <a:cubicBezTo>
                  <a:pt x="19361" y="14684"/>
                  <a:pt x="19355" y="14684"/>
                  <a:pt x="19348" y="14684"/>
                </a:cubicBezTo>
              </a:path>
              <a:path w="7284" h="2819">
                <a:moveTo>
                  <a:pt x="18911" y="14089"/>
                </a:moveTo>
                <a:cubicBezTo>
                  <a:pt x="19020" y="14089"/>
                  <a:pt x="19123" y="14101"/>
                  <a:pt x="19229" y="14109"/>
                </a:cubicBezTo>
                <a:cubicBezTo>
                  <a:pt x="19318" y="14116"/>
                  <a:pt x="19400" y="14119"/>
                  <a:pt x="19487" y="14129"/>
                </a:cubicBezTo>
                <a:cubicBezTo>
                  <a:pt x="19607" y="14143"/>
                  <a:pt x="19728" y="14130"/>
                  <a:pt x="19844" y="14149"/>
                </a:cubicBezTo>
                <a:cubicBezTo>
                  <a:pt x="19899" y="14158"/>
                  <a:pt x="19878" y="14164"/>
                  <a:pt x="19943" y="14168"/>
                </a:cubicBezTo>
                <a:cubicBezTo>
                  <a:pt x="20004" y="14171"/>
                  <a:pt x="20044" y="14171"/>
                  <a:pt x="20102" y="14188"/>
                </a:cubicBezTo>
                <a:cubicBezTo>
                  <a:pt x="20139" y="14199"/>
                  <a:pt x="20186" y="14197"/>
                  <a:pt x="20221" y="14208"/>
                </a:cubicBezTo>
                <a:cubicBezTo>
                  <a:pt x="20266" y="14223"/>
                  <a:pt x="20293" y="14242"/>
                  <a:pt x="20340" y="142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00880" y="5521320"/>
            <a:ext cx="664920" cy="308160"/>
          </a:xfrm>
          <a:custGeom>
            <a:avLst/>
            <a:gdLst/>
            <a:ahLst/>
            <a:rect l="l" t="t" r="r" b="b"/>
            <a:pathLst>
              <a:path w="1846" h="854">
                <a:moveTo>
                  <a:pt x="18058" y="16192"/>
                </a:moveTo>
                <a:cubicBezTo>
                  <a:pt x="18058" y="16044"/>
                  <a:pt x="18059" y="15898"/>
                  <a:pt x="18078" y="15756"/>
                </a:cubicBezTo>
                <a:cubicBezTo>
                  <a:pt x="18085" y="15701"/>
                  <a:pt x="18090" y="15649"/>
                  <a:pt x="18098" y="15597"/>
                </a:cubicBezTo>
                <a:cubicBezTo>
                  <a:pt x="18108" y="15532"/>
                  <a:pt x="18076" y="15452"/>
                  <a:pt x="18117" y="15399"/>
                </a:cubicBezTo>
                <a:cubicBezTo>
                  <a:pt x="18133" y="15378"/>
                  <a:pt x="18141" y="15371"/>
                  <a:pt x="18177" y="15359"/>
                </a:cubicBezTo>
                <a:cubicBezTo>
                  <a:pt x="18215" y="15346"/>
                  <a:pt x="18256" y="15341"/>
                  <a:pt x="18296" y="15339"/>
                </a:cubicBezTo>
                <a:cubicBezTo>
                  <a:pt x="18388" y="15334"/>
                  <a:pt x="18482" y="15339"/>
                  <a:pt x="18574" y="15339"/>
                </a:cubicBezTo>
                <a:cubicBezTo>
                  <a:pt x="18580" y="15380"/>
                  <a:pt x="18588" y="15368"/>
                  <a:pt x="18594" y="15399"/>
                </a:cubicBezTo>
                <a:cubicBezTo>
                  <a:pt x="18606" y="15459"/>
                  <a:pt x="18610" y="15592"/>
                  <a:pt x="18574" y="15637"/>
                </a:cubicBezTo>
                <a:cubicBezTo>
                  <a:pt x="18555" y="15661"/>
                  <a:pt x="18518" y="15635"/>
                  <a:pt x="18494" y="15657"/>
                </a:cubicBezTo>
                <a:cubicBezTo>
                  <a:pt x="18469" y="15680"/>
                  <a:pt x="18470" y="15679"/>
                  <a:pt x="18435" y="15696"/>
                </a:cubicBezTo>
                <a:cubicBezTo>
                  <a:pt x="18413" y="15707"/>
                  <a:pt x="18373" y="15723"/>
                  <a:pt x="18355" y="15736"/>
                </a:cubicBezTo>
                <a:cubicBezTo>
                  <a:pt x="18316" y="15764"/>
                  <a:pt x="18326" y="15773"/>
                  <a:pt x="18276" y="15776"/>
                </a:cubicBezTo>
                <a:cubicBezTo>
                  <a:pt x="18236" y="15778"/>
                  <a:pt x="18169" y="15794"/>
                  <a:pt x="18157" y="15796"/>
                </a:cubicBezTo>
                <a:cubicBezTo>
                  <a:pt x="18137" y="15796"/>
                  <a:pt x="18130" y="15796"/>
                  <a:pt x="18117" y="15796"/>
                </a:cubicBezTo>
              </a:path>
              <a:path w="1846" h="854">
                <a:moveTo>
                  <a:pt x="19169" y="16153"/>
                </a:moveTo>
                <a:cubicBezTo>
                  <a:pt x="19111" y="16153"/>
                  <a:pt x="19061" y="16149"/>
                  <a:pt x="19030" y="16133"/>
                </a:cubicBezTo>
                <a:cubicBezTo>
                  <a:pt x="19013" y="16125"/>
                  <a:pt x="18968" y="16115"/>
                  <a:pt x="18951" y="16113"/>
                </a:cubicBezTo>
                <a:cubicBezTo>
                  <a:pt x="18923" y="16110"/>
                  <a:pt x="18893" y="16097"/>
                  <a:pt x="18891" y="16073"/>
                </a:cubicBezTo>
                <a:cubicBezTo>
                  <a:pt x="18888" y="16039"/>
                  <a:pt x="18874" y="16025"/>
                  <a:pt x="18871" y="15994"/>
                </a:cubicBezTo>
                <a:cubicBezTo>
                  <a:pt x="18860" y="15896"/>
                  <a:pt x="18874" y="15764"/>
                  <a:pt x="18891" y="15696"/>
                </a:cubicBezTo>
                <a:cubicBezTo>
                  <a:pt x="18899" y="15664"/>
                  <a:pt x="18904" y="15651"/>
                  <a:pt x="18911" y="15637"/>
                </a:cubicBezTo>
                <a:cubicBezTo>
                  <a:pt x="18926" y="15608"/>
                  <a:pt x="18929" y="15580"/>
                  <a:pt x="18971" y="15577"/>
                </a:cubicBezTo>
                <a:cubicBezTo>
                  <a:pt x="19008" y="15574"/>
                  <a:pt x="19019" y="15568"/>
                  <a:pt x="19050" y="15558"/>
                </a:cubicBezTo>
                <a:cubicBezTo>
                  <a:pt x="19133" y="15532"/>
                  <a:pt x="19293" y="15560"/>
                  <a:pt x="19348" y="15577"/>
                </a:cubicBezTo>
                <a:cubicBezTo>
                  <a:pt x="19376" y="15586"/>
                  <a:pt x="19396" y="15612"/>
                  <a:pt x="19407" y="15617"/>
                </a:cubicBezTo>
                <a:cubicBezTo>
                  <a:pt x="19451" y="15639"/>
                  <a:pt x="19414" y="15644"/>
                  <a:pt x="19447" y="15677"/>
                </a:cubicBezTo>
                <a:cubicBezTo>
                  <a:pt x="19461" y="15691"/>
                  <a:pt x="19483" y="15721"/>
                  <a:pt x="19487" y="15756"/>
                </a:cubicBezTo>
                <a:cubicBezTo>
                  <a:pt x="19492" y="15798"/>
                  <a:pt x="19495" y="15819"/>
                  <a:pt x="19506" y="15855"/>
                </a:cubicBezTo>
                <a:cubicBezTo>
                  <a:pt x="19527" y="15920"/>
                  <a:pt x="19489" y="15936"/>
                  <a:pt x="19467" y="15974"/>
                </a:cubicBezTo>
                <a:cubicBezTo>
                  <a:pt x="19455" y="15994"/>
                  <a:pt x="19461" y="16033"/>
                  <a:pt x="19447" y="16054"/>
                </a:cubicBezTo>
                <a:cubicBezTo>
                  <a:pt x="19425" y="16086"/>
                  <a:pt x="19391" y="16084"/>
                  <a:pt x="19387" y="16113"/>
                </a:cubicBezTo>
                <a:cubicBezTo>
                  <a:pt x="19387" y="16120"/>
                  <a:pt x="19387" y="16126"/>
                  <a:pt x="19387" y="16133"/>
                </a:cubicBezTo>
                <a:cubicBezTo>
                  <a:pt x="19336" y="16142"/>
                  <a:pt x="19358" y="16153"/>
                  <a:pt x="19308" y="16153"/>
                </a:cubicBezTo>
                <a:cubicBezTo>
                  <a:pt x="19279" y="16153"/>
                  <a:pt x="19262" y="16170"/>
                  <a:pt x="19229" y="16173"/>
                </a:cubicBezTo>
                <a:cubicBezTo>
                  <a:pt x="19197" y="16176"/>
                  <a:pt x="19213" y="16192"/>
                  <a:pt x="19169" y="16192"/>
                </a:cubicBezTo>
              </a:path>
              <a:path w="1846" h="854">
                <a:moveTo>
                  <a:pt x="19903" y="16173"/>
                </a:moveTo>
                <a:cubicBezTo>
                  <a:pt x="19903" y="16080"/>
                  <a:pt x="19903" y="15988"/>
                  <a:pt x="19903" y="15895"/>
                </a:cubicBezTo>
                <a:cubicBezTo>
                  <a:pt x="19876" y="15877"/>
                  <a:pt x="19883" y="15856"/>
                  <a:pt x="19883" y="15815"/>
                </a:cubicBezTo>
                <a:cubicBezTo>
                  <a:pt x="19883" y="15742"/>
                  <a:pt x="19883" y="15670"/>
                  <a:pt x="19883" y="155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286760" y="5351400"/>
            <a:ext cx="593640" cy="463680"/>
          </a:xfrm>
          <a:custGeom>
            <a:avLst/>
            <a:gdLst/>
            <a:ahLst/>
            <a:rect l="l" t="t" r="r" b="b"/>
            <a:pathLst>
              <a:path w="1648" h="1291">
                <a:moveTo>
                  <a:pt x="20300" y="16014"/>
                </a:moveTo>
                <a:cubicBezTo>
                  <a:pt x="20300" y="15928"/>
                  <a:pt x="20294" y="15850"/>
                  <a:pt x="20280" y="15776"/>
                </a:cubicBezTo>
                <a:cubicBezTo>
                  <a:pt x="20273" y="15737"/>
                  <a:pt x="20265" y="15695"/>
                  <a:pt x="20260" y="15657"/>
                </a:cubicBezTo>
                <a:cubicBezTo>
                  <a:pt x="20254" y="15611"/>
                  <a:pt x="20252" y="15578"/>
                  <a:pt x="20241" y="15538"/>
                </a:cubicBezTo>
                <a:cubicBezTo>
                  <a:pt x="20241" y="15531"/>
                  <a:pt x="20241" y="15525"/>
                  <a:pt x="20241" y="15518"/>
                </a:cubicBezTo>
                <a:cubicBezTo>
                  <a:pt x="20241" y="15576"/>
                  <a:pt x="20251" y="15629"/>
                  <a:pt x="20260" y="15677"/>
                </a:cubicBezTo>
                <a:cubicBezTo>
                  <a:pt x="20269" y="15724"/>
                  <a:pt x="20289" y="15748"/>
                  <a:pt x="20300" y="15796"/>
                </a:cubicBezTo>
                <a:cubicBezTo>
                  <a:pt x="20307" y="15827"/>
                  <a:pt x="20315" y="15870"/>
                  <a:pt x="20320" y="15895"/>
                </a:cubicBezTo>
                <a:cubicBezTo>
                  <a:pt x="20330" y="15947"/>
                  <a:pt x="20322" y="15983"/>
                  <a:pt x="20340" y="16014"/>
                </a:cubicBezTo>
                <a:cubicBezTo>
                  <a:pt x="20340" y="15981"/>
                  <a:pt x="20340" y="15987"/>
                  <a:pt x="20340" y="15954"/>
                </a:cubicBezTo>
                <a:cubicBezTo>
                  <a:pt x="20340" y="15883"/>
                  <a:pt x="20329" y="15816"/>
                  <a:pt x="20320" y="15756"/>
                </a:cubicBezTo>
                <a:cubicBezTo>
                  <a:pt x="20309" y="15679"/>
                  <a:pt x="20309" y="15620"/>
                  <a:pt x="20360" y="15597"/>
                </a:cubicBezTo>
                <a:cubicBezTo>
                  <a:pt x="20399" y="15580"/>
                  <a:pt x="20425" y="15576"/>
                  <a:pt x="20459" y="15558"/>
                </a:cubicBezTo>
                <a:cubicBezTo>
                  <a:pt x="20483" y="15546"/>
                  <a:pt x="20509" y="15538"/>
                  <a:pt x="20558" y="15538"/>
                </a:cubicBezTo>
                <a:cubicBezTo>
                  <a:pt x="20604" y="15538"/>
                  <a:pt x="20660" y="15555"/>
                  <a:pt x="20677" y="15558"/>
                </a:cubicBezTo>
                <a:cubicBezTo>
                  <a:pt x="20706" y="15564"/>
                  <a:pt x="20733" y="15562"/>
                  <a:pt x="20757" y="15577"/>
                </a:cubicBezTo>
                <a:cubicBezTo>
                  <a:pt x="20761" y="15580"/>
                  <a:pt x="20815" y="15635"/>
                  <a:pt x="20816" y="15637"/>
                </a:cubicBezTo>
                <a:cubicBezTo>
                  <a:pt x="20832" y="15692"/>
                  <a:pt x="20866" y="15735"/>
                  <a:pt x="20876" y="15796"/>
                </a:cubicBezTo>
                <a:cubicBezTo>
                  <a:pt x="20885" y="15847"/>
                  <a:pt x="20887" y="15904"/>
                  <a:pt x="20895" y="15954"/>
                </a:cubicBezTo>
                <a:cubicBezTo>
                  <a:pt x="20905" y="16017"/>
                  <a:pt x="20895" y="16089"/>
                  <a:pt x="20895" y="16153"/>
                </a:cubicBezTo>
                <a:cubicBezTo>
                  <a:pt x="20918" y="16085"/>
                  <a:pt x="20928" y="16057"/>
                  <a:pt x="20955" y="16014"/>
                </a:cubicBezTo>
              </a:path>
              <a:path w="1648" h="1291">
                <a:moveTo>
                  <a:pt x="21352" y="14863"/>
                </a:moveTo>
                <a:cubicBezTo>
                  <a:pt x="21352" y="14992"/>
                  <a:pt x="21353" y="15118"/>
                  <a:pt x="21372" y="15240"/>
                </a:cubicBezTo>
                <a:cubicBezTo>
                  <a:pt x="21380" y="15289"/>
                  <a:pt x="21383" y="15338"/>
                  <a:pt x="21392" y="15379"/>
                </a:cubicBezTo>
                <a:cubicBezTo>
                  <a:pt x="21437" y="15588"/>
                  <a:pt x="21379" y="15868"/>
                  <a:pt x="21411" y="16054"/>
                </a:cubicBezTo>
                <a:cubicBezTo>
                  <a:pt x="21414" y="16072"/>
                  <a:pt x="21411" y="16094"/>
                  <a:pt x="21411" y="16113"/>
                </a:cubicBezTo>
              </a:path>
              <a:path w="1648" h="1291">
                <a:moveTo>
                  <a:pt x="21134" y="15597"/>
                </a:moveTo>
                <a:cubicBezTo>
                  <a:pt x="21233" y="15597"/>
                  <a:pt x="21338" y="15612"/>
                  <a:pt x="21431" y="15577"/>
                </a:cubicBezTo>
                <a:cubicBezTo>
                  <a:pt x="21480" y="15559"/>
                  <a:pt x="21546" y="15546"/>
                  <a:pt x="21590" y="15538"/>
                </a:cubicBezTo>
                <a:cubicBezTo>
                  <a:pt x="21648" y="15527"/>
                  <a:pt x="21666" y="15498"/>
                  <a:pt x="21729" y="15498"/>
                </a:cubicBezTo>
                <a:cubicBezTo>
                  <a:pt x="21772" y="15498"/>
                  <a:pt x="21791" y="15462"/>
                  <a:pt x="21828" y="15458"/>
                </a:cubicBezTo>
                <a:cubicBezTo>
                  <a:pt x="21860" y="15454"/>
                  <a:pt x="21850" y="15427"/>
                  <a:pt x="21868" y="15419"/>
                </a:cubicBezTo>
                <a:cubicBezTo>
                  <a:pt x="21875" y="15419"/>
                  <a:pt x="21881" y="15419"/>
                  <a:pt x="21888" y="15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Launch Sac</a:t>
            </a:r>
            <a:endParaRPr b="1" lang="en-US" sz="4400" spc="-1" strike="noStrike">
              <a:solidFill>
                <a:srgbClr val="000000"/>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unch sac is the area where the projectile will be inserted into prior to the launch of the catapult. </a:t>
            </a:r>
            <a:endParaRPr b="0" lang="en-US" sz="3200" spc="-1" strike="noStrike">
              <a:solidFill>
                <a:srgbClr val="000000"/>
              </a:solidFill>
              <a:latin typeface="Arial"/>
            </a:endParaRPr>
          </a:p>
        </p:txBody>
      </p:sp>
      <p:pic>
        <p:nvPicPr>
          <p:cNvPr id="117" name="" descr=""/>
          <p:cNvPicPr/>
          <p:nvPr/>
        </p:nvPicPr>
        <p:blipFill>
          <a:blip r:embed="rId1"/>
          <a:stretch/>
        </p:blipFill>
        <p:spPr>
          <a:xfrm>
            <a:off x="3124080" y="3886200"/>
            <a:ext cx="2857680" cy="2685960"/>
          </a:xfrm>
          <a:prstGeom prst="rect">
            <a:avLst/>
          </a:prstGeom>
          <a:ln w="0">
            <a:noFill/>
          </a:ln>
        </p:spPr>
      </p:pic>
      <p:sp>
        <p:nvSpPr>
          <p:cNvPr id="118" name=""/>
          <p:cNvSpPr/>
          <p:nvPr/>
        </p:nvSpPr>
        <p:spPr>
          <a:xfrm>
            <a:off x="6286680" y="3951360"/>
            <a:ext cx="1365120" cy="557280"/>
          </a:xfrm>
          <a:custGeom>
            <a:avLst/>
            <a:gdLst/>
            <a:ahLst/>
            <a:rect l="l" t="t" r="r" b="b"/>
            <a:pathLst>
              <a:path w="3792" h="1548">
                <a:moveTo>
                  <a:pt x="17482" y="10974"/>
                </a:moveTo>
                <a:cubicBezTo>
                  <a:pt x="17482" y="11114"/>
                  <a:pt x="17488" y="11262"/>
                  <a:pt x="17462" y="11390"/>
                </a:cubicBezTo>
                <a:cubicBezTo>
                  <a:pt x="17423" y="11585"/>
                  <a:pt x="17462" y="11825"/>
                  <a:pt x="17462" y="12025"/>
                </a:cubicBezTo>
                <a:cubicBezTo>
                  <a:pt x="17536" y="12025"/>
                  <a:pt x="17557" y="12027"/>
                  <a:pt x="17601" y="12005"/>
                </a:cubicBezTo>
              </a:path>
              <a:path w="3792" h="1548">
                <a:moveTo>
                  <a:pt x="18078" y="11529"/>
                </a:moveTo>
                <a:cubicBezTo>
                  <a:pt x="18039" y="11529"/>
                  <a:pt x="17968" y="11516"/>
                  <a:pt x="17939" y="11549"/>
                </a:cubicBezTo>
                <a:cubicBezTo>
                  <a:pt x="17913" y="11580"/>
                  <a:pt x="17897" y="11655"/>
                  <a:pt x="17879" y="11688"/>
                </a:cubicBezTo>
                <a:cubicBezTo>
                  <a:pt x="17858" y="11727"/>
                  <a:pt x="17859" y="11769"/>
                  <a:pt x="17840" y="11807"/>
                </a:cubicBezTo>
                <a:cubicBezTo>
                  <a:pt x="17814" y="11859"/>
                  <a:pt x="17832" y="11839"/>
                  <a:pt x="17840" y="11867"/>
                </a:cubicBezTo>
                <a:cubicBezTo>
                  <a:pt x="17840" y="11880"/>
                  <a:pt x="17840" y="11893"/>
                  <a:pt x="17840" y="11906"/>
                </a:cubicBezTo>
                <a:cubicBezTo>
                  <a:pt x="17866" y="11910"/>
                  <a:pt x="17961" y="11931"/>
                  <a:pt x="17978" y="11946"/>
                </a:cubicBezTo>
                <a:cubicBezTo>
                  <a:pt x="18024" y="11986"/>
                  <a:pt x="18065" y="12000"/>
                  <a:pt x="18137" y="12005"/>
                </a:cubicBezTo>
                <a:cubicBezTo>
                  <a:pt x="18173" y="12008"/>
                  <a:pt x="18192" y="12034"/>
                  <a:pt x="18236" y="12025"/>
                </a:cubicBezTo>
                <a:cubicBezTo>
                  <a:pt x="18267" y="12019"/>
                  <a:pt x="18330" y="11922"/>
                  <a:pt x="18336" y="11886"/>
                </a:cubicBezTo>
                <a:cubicBezTo>
                  <a:pt x="18345" y="11834"/>
                  <a:pt x="18353" y="11808"/>
                  <a:pt x="18355" y="11767"/>
                </a:cubicBezTo>
                <a:cubicBezTo>
                  <a:pt x="18357" y="11721"/>
                  <a:pt x="18372" y="11716"/>
                  <a:pt x="18375" y="11688"/>
                </a:cubicBezTo>
                <a:cubicBezTo>
                  <a:pt x="18377" y="11669"/>
                  <a:pt x="18375" y="11647"/>
                  <a:pt x="18375" y="11628"/>
                </a:cubicBezTo>
                <a:cubicBezTo>
                  <a:pt x="18375" y="11667"/>
                  <a:pt x="18389" y="11671"/>
                  <a:pt x="18375" y="11708"/>
                </a:cubicBezTo>
                <a:cubicBezTo>
                  <a:pt x="18359" y="11749"/>
                  <a:pt x="18355" y="11777"/>
                  <a:pt x="18355" y="11827"/>
                </a:cubicBezTo>
                <a:cubicBezTo>
                  <a:pt x="18355" y="11906"/>
                  <a:pt x="18333" y="12017"/>
                  <a:pt x="18375" y="12085"/>
                </a:cubicBezTo>
                <a:cubicBezTo>
                  <a:pt x="18394" y="12116"/>
                  <a:pt x="18424" y="12152"/>
                  <a:pt x="18435" y="12184"/>
                </a:cubicBezTo>
                <a:cubicBezTo>
                  <a:pt x="18435" y="12207"/>
                  <a:pt x="18437" y="12215"/>
                  <a:pt x="18455" y="12224"/>
                </a:cubicBezTo>
              </a:path>
              <a:path w="3792" h="1548">
                <a:moveTo>
                  <a:pt x="18713" y="11609"/>
                </a:moveTo>
                <a:cubicBezTo>
                  <a:pt x="18713" y="11700"/>
                  <a:pt x="18718" y="11782"/>
                  <a:pt x="18732" y="11867"/>
                </a:cubicBezTo>
                <a:cubicBezTo>
                  <a:pt x="18741" y="11923"/>
                  <a:pt x="18739" y="11970"/>
                  <a:pt x="18752" y="12025"/>
                </a:cubicBezTo>
                <a:cubicBezTo>
                  <a:pt x="18759" y="12056"/>
                  <a:pt x="18778" y="12045"/>
                  <a:pt x="18812" y="12045"/>
                </a:cubicBezTo>
                <a:cubicBezTo>
                  <a:pt x="18882" y="12045"/>
                  <a:pt x="18861" y="12026"/>
                  <a:pt x="18911" y="12005"/>
                </a:cubicBezTo>
                <a:cubicBezTo>
                  <a:pt x="18924" y="12005"/>
                  <a:pt x="18938" y="12005"/>
                  <a:pt x="18951" y="12005"/>
                </a:cubicBezTo>
                <a:cubicBezTo>
                  <a:pt x="18951" y="11945"/>
                  <a:pt x="18973" y="11923"/>
                  <a:pt x="18990" y="11867"/>
                </a:cubicBezTo>
                <a:cubicBezTo>
                  <a:pt x="19000" y="11832"/>
                  <a:pt x="19007" y="11784"/>
                  <a:pt x="19010" y="11748"/>
                </a:cubicBezTo>
                <a:cubicBezTo>
                  <a:pt x="19013" y="11715"/>
                  <a:pt x="19030" y="11705"/>
                  <a:pt x="19030" y="11668"/>
                </a:cubicBezTo>
                <a:cubicBezTo>
                  <a:pt x="19030" y="11648"/>
                  <a:pt x="19030" y="11641"/>
                  <a:pt x="19030" y="11628"/>
                </a:cubicBezTo>
              </a:path>
              <a:path w="3792" h="1548">
                <a:moveTo>
                  <a:pt x="19030" y="11648"/>
                </a:moveTo>
                <a:cubicBezTo>
                  <a:pt x="19030" y="11694"/>
                  <a:pt x="19043" y="11725"/>
                  <a:pt x="19050" y="11767"/>
                </a:cubicBezTo>
                <a:cubicBezTo>
                  <a:pt x="19068" y="11874"/>
                  <a:pt x="19044" y="11981"/>
                  <a:pt x="19070" y="12085"/>
                </a:cubicBezTo>
                <a:cubicBezTo>
                  <a:pt x="19078" y="12116"/>
                  <a:pt x="19078" y="12136"/>
                  <a:pt x="19090" y="12164"/>
                </a:cubicBezTo>
                <a:cubicBezTo>
                  <a:pt x="19114" y="12220"/>
                  <a:pt x="19121" y="12213"/>
                  <a:pt x="19129" y="12263"/>
                </a:cubicBezTo>
                <a:cubicBezTo>
                  <a:pt x="19149" y="12263"/>
                  <a:pt x="19156" y="12263"/>
                  <a:pt x="19149" y="12283"/>
                </a:cubicBezTo>
              </a:path>
              <a:path w="3792" h="1548">
                <a:moveTo>
                  <a:pt x="17978" y="11589"/>
                </a:moveTo>
                <a:cubicBezTo>
                  <a:pt x="18016" y="11584"/>
                  <a:pt x="18081" y="11583"/>
                  <a:pt x="18117" y="11569"/>
                </a:cubicBezTo>
                <a:cubicBezTo>
                  <a:pt x="18135" y="11551"/>
                  <a:pt x="18139" y="11544"/>
                  <a:pt x="18157" y="11549"/>
                </a:cubicBezTo>
                <a:cubicBezTo>
                  <a:pt x="18175" y="11522"/>
                  <a:pt x="18196" y="11529"/>
                  <a:pt x="18236" y="11529"/>
                </a:cubicBezTo>
                <a:cubicBezTo>
                  <a:pt x="18298" y="11529"/>
                  <a:pt x="18343" y="11532"/>
                  <a:pt x="18395" y="11549"/>
                </a:cubicBezTo>
                <a:cubicBezTo>
                  <a:pt x="18402" y="11549"/>
                  <a:pt x="18408" y="11549"/>
                  <a:pt x="18415" y="11549"/>
                </a:cubicBezTo>
                <a:cubicBezTo>
                  <a:pt x="18419" y="11562"/>
                  <a:pt x="18434" y="11598"/>
                  <a:pt x="18455" y="11609"/>
                </a:cubicBezTo>
                <a:cubicBezTo>
                  <a:pt x="18462" y="11609"/>
                  <a:pt x="18468" y="11609"/>
                  <a:pt x="18475" y="11609"/>
                </a:cubicBezTo>
                <a:cubicBezTo>
                  <a:pt x="18475" y="11665"/>
                  <a:pt x="18471" y="11701"/>
                  <a:pt x="18455" y="11748"/>
                </a:cubicBezTo>
                <a:cubicBezTo>
                  <a:pt x="18444" y="11779"/>
                  <a:pt x="18446" y="11755"/>
                  <a:pt x="18435" y="11787"/>
                </a:cubicBezTo>
              </a:path>
              <a:path w="3792" h="1548">
                <a:moveTo>
                  <a:pt x="19487" y="12085"/>
                </a:moveTo>
                <a:cubicBezTo>
                  <a:pt x="19462" y="12077"/>
                  <a:pt x="19456" y="12041"/>
                  <a:pt x="19467" y="12005"/>
                </a:cubicBezTo>
                <a:cubicBezTo>
                  <a:pt x="19475" y="11977"/>
                  <a:pt x="19476" y="11886"/>
                  <a:pt x="19487" y="11867"/>
                </a:cubicBezTo>
                <a:cubicBezTo>
                  <a:pt x="19498" y="11850"/>
                  <a:pt x="19506" y="11826"/>
                  <a:pt x="19506" y="11787"/>
                </a:cubicBezTo>
                <a:cubicBezTo>
                  <a:pt x="19506" y="11761"/>
                  <a:pt x="19526" y="11753"/>
                  <a:pt x="19526" y="11708"/>
                </a:cubicBezTo>
                <a:cubicBezTo>
                  <a:pt x="19526" y="11675"/>
                  <a:pt x="19526" y="11642"/>
                  <a:pt x="19526" y="11609"/>
                </a:cubicBezTo>
                <a:cubicBezTo>
                  <a:pt x="19526" y="11731"/>
                  <a:pt x="19551" y="11954"/>
                  <a:pt x="19506" y="12045"/>
                </a:cubicBezTo>
                <a:cubicBezTo>
                  <a:pt x="19500" y="12056"/>
                  <a:pt x="19506" y="12174"/>
                  <a:pt x="19506" y="12125"/>
                </a:cubicBezTo>
                <a:cubicBezTo>
                  <a:pt x="19506" y="12069"/>
                  <a:pt x="19510" y="12032"/>
                  <a:pt x="19526" y="11986"/>
                </a:cubicBezTo>
                <a:cubicBezTo>
                  <a:pt x="19533" y="11966"/>
                  <a:pt x="19528" y="11918"/>
                  <a:pt x="19546" y="11906"/>
                </a:cubicBezTo>
                <a:cubicBezTo>
                  <a:pt x="19553" y="11901"/>
                  <a:pt x="19601" y="11873"/>
                  <a:pt x="19606" y="11867"/>
                </a:cubicBezTo>
                <a:cubicBezTo>
                  <a:pt x="19619" y="11851"/>
                  <a:pt x="19641" y="11830"/>
                  <a:pt x="19665" y="11827"/>
                </a:cubicBezTo>
                <a:cubicBezTo>
                  <a:pt x="19698" y="11823"/>
                  <a:pt x="19708" y="11807"/>
                  <a:pt x="19745" y="11807"/>
                </a:cubicBezTo>
                <a:cubicBezTo>
                  <a:pt x="19806" y="11807"/>
                  <a:pt x="19851" y="11811"/>
                  <a:pt x="19883" y="11827"/>
                </a:cubicBezTo>
                <a:cubicBezTo>
                  <a:pt x="19911" y="11841"/>
                  <a:pt x="19905" y="11844"/>
                  <a:pt x="19923" y="11867"/>
                </a:cubicBezTo>
                <a:cubicBezTo>
                  <a:pt x="19948" y="11899"/>
                  <a:pt x="19927" y="11916"/>
                  <a:pt x="19943" y="11946"/>
                </a:cubicBezTo>
                <a:cubicBezTo>
                  <a:pt x="19954" y="11966"/>
                  <a:pt x="19980" y="11998"/>
                  <a:pt x="19983" y="12005"/>
                </a:cubicBezTo>
                <a:cubicBezTo>
                  <a:pt x="19997" y="12033"/>
                  <a:pt x="20002" y="12072"/>
                  <a:pt x="20002" y="12105"/>
                </a:cubicBezTo>
                <a:cubicBezTo>
                  <a:pt x="20002" y="12131"/>
                  <a:pt x="20002" y="12158"/>
                  <a:pt x="20002" y="12184"/>
                </a:cubicBezTo>
              </a:path>
              <a:path w="3792" h="1548">
                <a:moveTo>
                  <a:pt x="20558" y="11886"/>
                </a:moveTo>
                <a:cubicBezTo>
                  <a:pt x="20502" y="11877"/>
                  <a:pt x="20525" y="11867"/>
                  <a:pt x="20459" y="11867"/>
                </a:cubicBezTo>
                <a:cubicBezTo>
                  <a:pt x="20390" y="11867"/>
                  <a:pt x="20362" y="11855"/>
                  <a:pt x="20320" y="11906"/>
                </a:cubicBezTo>
                <a:cubicBezTo>
                  <a:pt x="20297" y="11934"/>
                  <a:pt x="20263" y="11948"/>
                  <a:pt x="20260" y="11986"/>
                </a:cubicBezTo>
                <a:cubicBezTo>
                  <a:pt x="20256" y="12038"/>
                  <a:pt x="20233" y="12042"/>
                  <a:pt x="20221" y="12065"/>
                </a:cubicBezTo>
                <a:cubicBezTo>
                  <a:pt x="20198" y="12111"/>
                  <a:pt x="20233" y="12206"/>
                  <a:pt x="20241" y="12224"/>
                </a:cubicBezTo>
                <a:cubicBezTo>
                  <a:pt x="20255" y="12256"/>
                  <a:pt x="20235" y="12268"/>
                  <a:pt x="20280" y="12283"/>
                </a:cubicBezTo>
                <a:cubicBezTo>
                  <a:pt x="20307" y="12292"/>
                  <a:pt x="20305" y="12311"/>
                  <a:pt x="20340" y="12323"/>
                </a:cubicBezTo>
                <a:cubicBezTo>
                  <a:pt x="20368" y="12332"/>
                  <a:pt x="20412" y="12340"/>
                  <a:pt x="20439" y="12343"/>
                </a:cubicBezTo>
                <a:cubicBezTo>
                  <a:pt x="20458" y="12345"/>
                  <a:pt x="20480" y="12343"/>
                  <a:pt x="20499" y="12343"/>
                </a:cubicBezTo>
                <a:cubicBezTo>
                  <a:pt x="20499" y="12309"/>
                  <a:pt x="20498" y="12311"/>
                  <a:pt x="20518" y="12283"/>
                </a:cubicBezTo>
              </a:path>
              <a:path w="3792" h="1548">
                <a:moveTo>
                  <a:pt x="20737" y="12402"/>
                </a:moveTo>
                <a:cubicBezTo>
                  <a:pt x="20737" y="12342"/>
                  <a:pt x="20726" y="12299"/>
                  <a:pt x="20717" y="12244"/>
                </a:cubicBezTo>
                <a:cubicBezTo>
                  <a:pt x="20686" y="12059"/>
                  <a:pt x="20712" y="11782"/>
                  <a:pt x="20737" y="11628"/>
                </a:cubicBezTo>
                <a:cubicBezTo>
                  <a:pt x="20742" y="11595"/>
                  <a:pt x="20751" y="11581"/>
                  <a:pt x="20757" y="11549"/>
                </a:cubicBezTo>
                <a:cubicBezTo>
                  <a:pt x="20764" y="11510"/>
                  <a:pt x="20757" y="11510"/>
                  <a:pt x="20757" y="11470"/>
                </a:cubicBezTo>
                <a:cubicBezTo>
                  <a:pt x="20757" y="11697"/>
                  <a:pt x="20770" y="11988"/>
                  <a:pt x="20737" y="12184"/>
                </a:cubicBezTo>
                <a:cubicBezTo>
                  <a:pt x="20724" y="12262"/>
                  <a:pt x="20737" y="12303"/>
                  <a:pt x="20737" y="12382"/>
                </a:cubicBezTo>
                <a:cubicBezTo>
                  <a:pt x="20737" y="12260"/>
                  <a:pt x="20711" y="12054"/>
                  <a:pt x="20757" y="11966"/>
                </a:cubicBezTo>
                <a:cubicBezTo>
                  <a:pt x="20781" y="11920"/>
                  <a:pt x="20776" y="11946"/>
                  <a:pt x="20816" y="11926"/>
                </a:cubicBezTo>
                <a:cubicBezTo>
                  <a:pt x="20855" y="11907"/>
                  <a:pt x="20848" y="11889"/>
                  <a:pt x="20895" y="11886"/>
                </a:cubicBezTo>
                <a:cubicBezTo>
                  <a:pt x="20951" y="11883"/>
                  <a:pt x="21025" y="11876"/>
                  <a:pt x="21074" y="11906"/>
                </a:cubicBezTo>
                <a:cubicBezTo>
                  <a:pt x="21091" y="11916"/>
                  <a:pt x="21143" y="11935"/>
                  <a:pt x="21153" y="11946"/>
                </a:cubicBezTo>
                <a:cubicBezTo>
                  <a:pt x="21189" y="11986"/>
                  <a:pt x="21183" y="12028"/>
                  <a:pt x="21213" y="12065"/>
                </a:cubicBezTo>
                <a:cubicBezTo>
                  <a:pt x="21241" y="12099"/>
                  <a:pt x="21220" y="12107"/>
                  <a:pt x="21233" y="12144"/>
                </a:cubicBezTo>
                <a:cubicBezTo>
                  <a:pt x="21250" y="12196"/>
                  <a:pt x="21253" y="12228"/>
                  <a:pt x="21253" y="12283"/>
                </a:cubicBezTo>
                <a:cubicBezTo>
                  <a:pt x="21253" y="12362"/>
                  <a:pt x="21253" y="12442"/>
                  <a:pt x="21253" y="125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35640" y="4735440"/>
            <a:ext cx="793800" cy="515880"/>
          </a:xfrm>
          <a:custGeom>
            <a:avLst/>
            <a:gdLst/>
            <a:ahLst/>
            <a:rect l="l" t="t" r="r" b="b"/>
            <a:pathLst>
              <a:path w="2204" h="1430">
                <a:moveTo>
                  <a:pt x="18137" y="13156"/>
                </a:moveTo>
                <a:cubicBezTo>
                  <a:pt x="18103" y="13176"/>
                  <a:pt x="18099" y="13174"/>
                  <a:pt x="18058" y="13176"/>
                </a:cubicBezTo>
                <a:cubicBezTo>
                  <a:pt x="18011" y="13179"/>
                  <a:pt x="18016" y="13191"/>
                  <a:pt x="17978" y="13216"/>
                </a:cubicBezTo>
                <a:cubicBezTo>
                  <a:pt x="17922" y="13253"/>
                  <a:pt x="17896" y="13272"/>
                  <a:pt x="17859" y="13335"/>
                </a:cubicBezTo>
                <a:cubicBezTo>
                  <a:pt x="17832" y="13381"/>
                  <a:pt x="17838" y="13430"/>
                  <a:pt x="17820" y="13474"/>
                </a:cubicBezTo>
                <a:cubicBezTo>
                  <a:pt x="17812" y="13493"/>
                  <a:pt x="17789" y="13527"/>
                  <a:pt x="17800" y="13553"/>
                </a:cubicBezTo>
                <a:cubicBezTo>
                  <a:pt x="17820" y="13601"/>
                  <a:pt x="17849" y="13628"/>
                  <a:pt x="17879" y="13672"/>
                </a:cubicBezTo>
                <a:cubicBezTo>
                  <a:pt x="17912" y="13720"/>
                  <a:pt x="17932" y="13782"/>
                  <a:pt x="17959" y="13831"/>
                </a:cubicBezTo>
                <a:cubicBezTo>
                  <a:pt x="17980" y="13869"/>
                  <a:pt x="17993" y="13928"/>
                  <a:pt x="17998" y="13970"/>
                </a:cubicBezTo>
                <a:cubicBezTo>
                  <a:pt x="18005" y="14032"/>
                  <a:pt x="17991" y="14097"/>
                  <a:pt x="17978" y="14129"/>
                </a:cubicBezTo>
                <a:cubicBezTo>
                  <a:pt x="17953" y="14190"/>
                  <a:pt x="17939" y="14186"/>
                  <a:pt x="17879" y="14188"/>
                </a:cubicBezTo>
                <a:cubicBezTo>
                  <a:pt x="17815" y="14191"/>
                  <a:pt x="17753" y="14177"/>
                  <a:pt x="17701" y="14168"/>
                </a:cubicBezTo>
                <a:cubicBezTo>
                  <a:pt x="17672" y="14163"/>
                  <a:pt x="17645" y="14164"/>
                  <a:pt x="17621" y="14149"/>
                </a:cubicBezTo>
                <a:cubicBezTo>
                  <a:pt x="17579" y="14124"/>
                  <a:pt x="17615" y="14130"/>
                  <a:pt x="17641" y="14109"/>
                </a:cubicBezTo>
              </a:path>
              <a:path w="2204" h="1430">
                <a:moveTo>
                  <a:pt x="18673" y="13712"/>
                </a:moveTo>
                <a:cubicBezTo>
                  <a:pt x="18578" y="13712"/>
                  <a:pt x="18462" y="13693"/>
                  <a:pt x="18375" y="13732"/>
                </a:cubicBezTo>
                <a:cubicBezTo>
                  <a:pt x="18323" y="13755"/>
                  <a:pt x="18280" y="13770"/>
                  <a:pt x="18236" y="13811"/>
                </a:cubicBezTo>
                <a:cubicBezTo>
                  <a:pt x="18219" y="13827"/>
                  <a:pt x="18164" y="13872"/>
                  <a:pt x="18157" y="13891"/>
                </a:cubicBezTo>
                <a:cubicBezTo>
                  <a:pt x="18145" y="13924"/>
                  <a:pt x="18125" y="13957"/>
                  <a:pt x="18117" y="13990"/>
                </a:cubicBezTo>
                <a:cubicBezTo>
                  <a:pt x="18110" y="14021"/>
                  <a:pt x="18093" y="14059"/>
                  <a:pt x="18098" y="14089"/>
                </a:cubicBezTo>
                <a:cubicBezTo>
                  <a:pt x="18105" y="14127"/>
                  <a:pt x="18113" y="14159"/>
                  <a:pt x="18137" y="14188"/>
                </a:cubicBezTo>
                <a:cubicBezTo>
                  <a:pt x="18165" y="14222"/>
                  <a:pt x="18204" y="14249"/>
                  <a:pt x="18236" y="14268"/>
                </a:cubicBezTo>
                <a:cubicBezTo>
                  <a:pt x="18287" y="14299"/>
                  <a:pt x="18297" y="14304"/>
                  <a:pt x="18355" y="14307"/>
                </a:cubicBezTo>
                <a:cubicBezTo>
                  <a:pt x="18392" y="14309"/>
                  <a:pt x="18419" y="14322"/>
                  <a:pt x="18455" y="14327"/>
                </a:cubicBezTo>
                <a:cubicBezTo>
                  <a:pt x="18488" y="14332"/>
                  <a:pt x="18533" y="14334"/>
                  <a:pt x="18554" y="14307"/>
                </a:cubicBezTo>
                <a:cubicBezTo>
                  <a:pt x="18574" y="14281"/>
                  <a:pt x="18578" y="14233"/>
                  <a:pt x="18594" y="14208"/>
                </a:cubicBezTo>
                <a:cubicBezTo>
                  <a:pt x="18626" y="14157"/>
                  <a:pt x="18650" y="14150"/>
                  <a:pt x="18653" y="14089"/>
                </a:cubicBezTo>
                <a:cubicBezTo>
                  <a:pt x="18658" y="14007"/>
                  <a:pt x="18653" y="13725"/>
                  <a:pt x="18653" y="13772"/>
                </a:cubicBezTo>
                <a:cubicBezTo>
                  <a:pt x="18653" y="13958"/>
                  <a:pt x="18647" y="14148"/>
                  <a:pt x="18673" y="14327"/>
                </a:cubicBezTo>
                <a:cubicBezTo>
                  <a:pt x="18680" y="14377"/>
                  <a:pt x="18692" y="14416"/>
                  <a:pt x="18713" y="14466"/>
                </a:cubicBezTo>
                <a:cubicBezTo>
                  <a:pt x="18725" y="14493"/>
                  <a:pt x="18730" y="14513"/>
                  <a:pt x="18732" y="14545"/>
                </a:cubicBezTo>
                <a:cubicBezTo>
                  <a:pt x="18735" y="14603"/>
                  <a:pt x="18743" y="14599"/>
                  <a:pt x="18752" y="14526"/>
                </a:cubicBezTo>
              </a:path>
              <a:path w="2204" h="1430">
                <a:moveTo>
                  <a:pt x="19804" y="13633"/>
                </a:moveTo>
                <a:cubicBezTo>
                  <a:pt x="19739" y="13633"/>
                  <a:pt x="19686" y="13642"/>
                  <a:pt x="19625" y="13652"/>
                </a:cubicBezTo>
                <a:cubicBezTo>
                  <a:pt x="19582" y="13659"/>
                  <a:pt x="19482" y="13673"/>
                  <a:pt x="19447" y="13692"/>
                </a:cubicBezTo>
                <a:cubicBezTo>
                  <a:pt x="19403" y="13715"/>
                  <a:pt x="19328" y="13762"/>
                  <a:pt x="19288" y="13791"/>
                </a:cubicBezTo>
                <a:cubicBezTo>
                  <a:pt x="19244" y="13823"/>
                  <a:pt x="19180" y="13871"/>
                  <a:pt x="19149" y="13910"/>
                </a:cubicBezTo>
                <a:cubicBezTo>
                  <a:pt x="19117" y="13949"/>
                  <a:pt x="19111" y="13995"/>
                  <a:pt x="19090" y="14030"/>
                </a:cubicBezTo>
                <a:cubicBezTo>
                  <a:pt x="19073" y="14058"/>
                  <a:pt x="19056" y="14075"/>
                  <a:pt x="19050" y="14109"/>
                </a:cubicBezTo>
                <a:cubicBezTo>
                  <a:pt x="19043" y="14147"/>
                  <a:pt x="19036" y="14175"/>
                  <a:pt x="19030" y="14208"/>
                </a:cubicBezTo>
                <a:cubicBezTo>
                  <a:pt x="19022" y="14257"/>
                  <a:pt x="19029" y="14309"/>
                  <a:pt x="19050" y="14347"/>
                </a:cubicBezTo>
                <a:cubicBezTo>
                  <a:pt x="19073" y="14390"/>
                  <a:pt x="19087" y="14380"/>
                  <a:pt x="19129" y="14407"/>
                </a:cubicBezTo>
                <a:cubicBezTo>
                  <a:pt x="19182" y="14441"/>
                  <a:pt x="19230" y="14463"/>
                  <a:pt x="19288" y="14466"/>
                </a:cubicBezTo>
                <a:cubicBezTo>
                  <a:pt x="19339" y="14469"/>
                  <a:pt x="19346" y="14495"/>
                  <a:pt x="19387" y="14506"/>
                </a:cubicBezTo>
                <a:cubicBezTo>
                  <a:pt x="19441" y="14521"/>
                  <a:pt x="19430" y="14477"/>
                  <a:pt x="19447" y="144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8360" y="3894120"/>
            <a:ext cx="2428920" cy="800280"/>
          </a:xfrm>
          <a:custGeom>
            <a:avLst/>
            <a:gdLst/>
            <a:ahLst/>
            <a:rect l="l" t="t" r="r" b="b"/>
            <a:pathLst>
              <a:path w="6748" h="2223">
                <a:moveTo>
                  <a:pt x="10299" y="13037"/>
                </a:moveTo>
                <a:cubicBezTo>
                  <a:pt x="10325" y="12917"/>
                  <a:pt x="10340" y="12836"/>
                  <a:pt x="10398" y="12720"/>
                </a:cubicBezTo>
                <a:cubicBezTo>
                  <a:pt x="10430" y="12657"/>
                  <a:pt x="10460" y="12577"/>
                  <a:pt x="10497" y="12521"/>
                </a:cubicBezTo>
                <a:cubicBezTo>
                  <a:pt x="10531" y="12470"/>
                  <a:pt x="10577" y="12410"/>
                  <a:pt x="10616" y="12363"/>
                </a:cubicBezTo>
                <a:cubicBezTo>
                  <a:pt x="10657" y="12313"/>
                  <a:pt x="10694" y="12269"/>
                  <a:pt x="10735" y="12224"/>
                </a:cubicBezTo>
                <a:cubicBezTo>
                  <a:pt x="10765" y="12191"/>
                  <a:pt x="10804" y="12163"/>
                  <a:pt x="10835" y="12125"/>
                </a:cubicBezTo>
                <a:cubicBezTo>
                  <a:pt x="10873" y="12106"/>
                  <a:pt x="10886" y="12100"/>
                  <a:pt x="10874" y="12065"/>
                </a:cubicBezTo>
                <a:cubicBezTo>
                  <a:pt x="10902" y="12044"/>
                  <a:pt x="10958" y="11989"/>
                  <a:pt x="10993" y="11966"/>
                </a:cubicBezTo>
                <a:cubicBezTo>
                  <a:pt x="11026" y="11944"/>
                  <a:pt x="11093" y="11919"/>
                  <a:pt x="11132" y="11886"/>
                </a:cubicBezTo>
                <a:cubicBezTo>
                  <a:pt x="11179" y="11846"/>
                  <a:pt x="11222" y="11803"/>
                  <a:pt x="11271" y="11767"/>
                </a:cubicBezTo>
                <a:cubicBezTo>
                  <a:pt x="11321" y="11730"/>
                  <a:pt x="11377" y="11703"/>
                  <a:pt x="11430" y="11668"/>
                </a:cubicBezTo>
                <a:cubicBezTo>
                  <a:pt x="11518" y="11609"/>
                  <a:pt x="11608" y="11553"/>
                  <a:pt x="11708" y="11509"/>
                </a:cubicBezTo>
                <a:cubicBezTo>
                  <a:pt x="11785" y="11475"/>
                  <a:pt x="11866" y="11462"/>
                  <a:pt x="11946" y="11430"/>
                </a:cubicBezTo>
                <a:cubicBezTo>
                  <a:pt x="11979" y="11417"/>
                  <a:pt x="12034" y="11406"/>
                  <a:pt x="12065" y="11390"/>
                </a:cubicBezTo>
                <a:cubicBezTo>
                  <a:pt x="12072" y="11387"/>
                  <a:pt x="12105" y="11361"/>
                  <a:pt x="12125" y="11351"/>
                </a:cubicBezTo>
                <a:cubicBezTo>
                  <a:pt x="12127" y="11350"/>
                  <a:pt x="12171" y="11319"/>
                  <a:pt x="12184" y="11311"/>
                </a:cubicBezTo>
                <a:cubicBezTo>
                  <a:pt x="12211" y="11294"/>
                  <a:pt x="12234" y="11266"/>
                  <a:pt x="12263" y="11251"/>
                </a:cubicBezTo>
                <a:cubicBezTo>
                  <a:pt x="12311" y="11226"/>
                  <a:pt x="12360" y="11216"/>
                  <a:pt x="12402" y="11192"/>
                </a:cubicBezTo>
                <a:cubicBezTo>
                  <a:pt x="12470" y="11152"/>
                  <a:pt x="12516" y="11141"/>
                  <a:pt x="12581" y="11112"/>
                </a:cubicBezTo>
                <a:cubicBezTo>
                  <a:pt x="12616" y="11096"/>
                  <a:pt x="12664" y="11066"/>
                  <a:pt x="12700" y="11053"/>
                </a:cubicBezTo>
                <a:cubicBezTo>
                  <a:pt x="12750" y="11035"/>
                  <a:pt x="12791" y="11030"/>
                  <a:pt x="12839" y="11013"/>
                </a:cubicBezTo>
                <a:cubicBezTo>
                  <a:pt x="12898" y="10992"/>
                  <a:pt x="12933" y="10968"/>
                  <a:pt x="12998" y="10954"/>
                </a:cubicBezTo>
                <a:cubicBezTo>
                  <a:pt x="13080" y="10937"/>
                  <a:pt x="13173" y="10927"/>
                  <a:pt x="13256" y="10914"/>
                </a:cubicBezTo>
                <a:cubicBezTo>
                  <a:pt x="13375" y="10896"/>
                  <a:pt x="13497" y="10873"/>
                  <a:pt x="13613" y="10855"/>
                </a:cubicBezTo>
                <a:cubicBezTo>
                  <a:pt x="13700" y="10841"/>
                  <a:pt x="13801" y="10821"/>
                  <a:pt x="13891" y="10815"/>
                </a:cubicBezTo>
                <a:cubicBezTo>
                  <a:pt x="14505" y="10776"/>
                  <a:pt x="15237" y="10745"/>
                  <a:pt x="15835" y="10855"/>
                </a:cubicBezTo>
                <a:cubicBezTo>
                  <a:pt x="15921" y="10871"/>
                  <a:pt x="16006" y="10898"/>
                  <a:pt x="16093" y="10914"/>
                </a:cubicBezTo>
                <a:cubicBezTo>
                  <a:pt x="16142" y="10923"/>
                  <a:pt x="16205" y="10920"/>
                  <a:pt x="16252" y="10934"/>
                </a:cubicBezTo>
                <a:cubicBezTo>
                  <a:pt x="16285" y="10944"/>
                  <a:pt x="16321" y="10965"/>
                  <a:pt x="16351" y="10974"/>
                </a:cubicBezTo>
                <a:cubicBezTo>
                  <a:pt x="16412" y="10993"/>
                  <a:pt x="16468" y="11011"/>
                  <a:pt x="16530" y="11033"/>
                </a:cubicBezTo>
                <a:cubicBezTo>
                  <a:pt x="16606" y="11060"/>
                  <a:pt x="16655" y="11082"/>
                  <a:pt x="16728" y="11112"/>
                </a:cubicBezTo>
                <a:cubicBezTo>
                  <a:pt x="16770" y="11129"/>
                  <a:pt x="16825" y="11157"/>
                  <a:pt x="16867" y="11172"/>
                </a:cubicBezTo>
                <a:cubicBezTo>
                  <a:pt x="16908" y="11186"/>
                  <a:pt x="16951" y="11195"/>
                  <a:pt x="16986" y="11212"/>
                </a:cubicBezTo>
                <a:cubicBezTo>
                  <a:pt x="17007" y="11222"/>
                  <a:pt x="17037" y="11246"/>
                  <a:pt x="17046" y="112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riggering Device</a:t>
            </a:r>
            <a:endParaRPr b="1" lang="en-US" sz="4400" spc="-1" strike="noStrike">
              <a:solidFill>
                <a:srgbClr val="000000"/>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ggering device is the part of the catapult that will trigger the rest of the parts to launch the projectile where it will go.</a:t>
            </a:r>
            <a:endParaRPr b="0" lang="en-US" sz="3200" spc="-1" strike="noStrike">
              <a:solidFill>
                <a:srgbClr val="000000"/>
              </a:solidFill>
              <a:latin typeface="Arial"/>
            </a:endParaRPr>
          </a:p>
        </p:txBody>
      </p:sp>
      <p:pic>
        <p:nvPicPr>
          <p:cNvPr id="123" name="" descr=""/>
          <p:cNvPicPr/>
          <p:nvPr/>
        </p:nvPicPr>
        <p:blipFill>
          <a:blip r:embed="rId1"/>
          <a:stretch/>
        </p:blipFill>
        <p:spPr>
          <a:xfrm>
            <a:off x="3124080" y="3886200"/>
            <a:ext cx="2857680" cy="2685960"/>
          </a:xfrm>
          <a:prstGeom prst="rect">
            <a:avLst/>
          </a:prstGeom>
          <a:ln w="0">
            <a:noFill/>
          </a:ln>
        </p:spPr>
      </p:pic>
      <p:sp>
        <p:nvSpPr>
          <p:cNvPr id="124" name=""/>
          <p:cNvSpPr/>
          <p:nvPr/>
        </p:nvSpPr>
        <p:spPr>
          <a:xfrm>
            <a:off x="4964040" y="4494240"/>
            <a:ext cx="1636920" cy="957240"/>
          </a:xfrm>
          <a:custGeom>
            <a:avLst/>
            <a:gdLst/>
            <a:ahLst/>
            <a:rect l="l" t="t" r="r" b="b"/>
            <a:pathLst>
              <a:path w="4546" h="2660">
                <a:moveTo>
                  <a:pt x="14188" y="15141"/>
                </a:moveTo>
                <a:cubicBezTo>
                  <a:pt x="14153" y="15141"/>
                  <a:pt x="14115" y="15122"/>
                  <a:pt x="14109" y="15121"/>
                </a:cubicBezTo>
                <a:cubicBezTo>
                  <a:pt x="14068" y="15113"/>
                  <a:pt x="14051" y="15112"/>
                  <a:pt x="14030" y="15101"/>
                </a:cubicBezTo>
                <a:cubicBezTo>
                  <a:pt x="14005" y="15087"/>
                  <a:pt x="13977" y="15091"/>
                  <a:pt x="13950" y="15081"/>
                </a:cubicBezTo>
                <a:cubicBezTo>
                  <a:pt x="13946" y="15079"/>
                  <a:pt x="13887" y="15040"/>
                  <a:pt x="13871" y="15022"/>
                </a:cubicBezTo>
                <a:cubicBezTo>
                  <a:pt x="13854" y="15003"/>
                  <a:pt x="13862" y="14964"/>
                  <a:pt x="13851" y="14942"/>
                </a:cubicBezTo>
                <a:cubicBezTo>
                  <a:pt x="13828" y="14896"/>
                  <a:pt x="13814" y="14903"/>
                  <a:pt x="13811" y="14843"/>
                </a:cubicBezTo>
                <a:cubicBezTo>
                  <a:pt x="13808" y="14791"/>
                  <a:pt x="13800" y="14747"/>
                  <a:pt x="13791" y="14704"/>
                </a:cubicBezTo>
                <a:cubicBezTo>
                  <a:pt x="13775" y="14626"/>
                  <a:pt x="13786" y="14473"/>
                  <a:pt x="13811" y="14426"/>
                </a:cubicBezTo>
                <a:cubicBezTo>
                  <a:pt x="13824" y="14402"/>
                  <a:pt x="13825" y="14366"/>
                  <a:pt x="13851" y="14347"/>
                </a:cubicBezTo>
                <a:cubicBezTo>
                  <a:pt x="13869" y="14334"/>
                  <a:pt x="13929" y="14311"/>
                  <a:pt x="13950" y="14307"/>
                </a:cubicBezTo>
                <a:cubicBezTo>
                  <a:pt x="13988" y="14299"/>
                  <a:pt x="14037" y="14294"/>
                  <a:pt x="14069" y="14288"/>
                </a:cubicBezTo>
                <a:cubicBezTo>
                  <a:pt x="14129" y="14276"/>
                  <a:pt x="14216" y="14290"/>
                  <a:pt x="14248" y="14307"/>
                </a:cubicBezTo>
                <a:cubicBezTo>
                  <a:pt x="14278" y="14323"/>
                  <a:pt x="14290" y="14330"/>
                  <a:pt x="14307" y="14347"/>
                </a:cubicBezTo>
                <a:cubicBezTo>
                  <a:pt x="14328" y="14368"/>
                  <a:pt x="14360" y="14399"/>
                  <a:pt x="14367" y="14426"/>
                </a:cubicBezTo>
                <a:cubicBezTo>
                  <a:pt x="14380" y="14475"/>
                  <a:pt x="14412" y="14466"/>
                  <a:pt x="14426" y="14526"/>
                </a:cubicBezTo>
                <a:cubicBezTo>
                  <a:pt x="14432" y="14552"/>
                  <a:pt x="14441" y="14559"/>
                  <a:pt x="14446" y="14585"/>
                </a:cubicBezTo>
                <a:cubicBezTo>
                  <a:pt x="14454" y="14624"/>
                  <a:pt x="14460" y="14616"/>
                  <a:pt x="14466" y="14645"/>
                </a:cubicBezTo>
                <a:cubicBezTo>
                  <a:pt x="14476" y="14696"/>
                  <a:pt x="14472" y="14780"/>
                  <a:pt x="14446" y="14823"/>
                </a:cubicBezTo>
                <a:cubicBezTo>
                  <a:pt x="14427" y="14854"/>
                  <a:pt x="14384" y="14887"/>
                  <a:pt x="14367" y="14903"/>
                </a:cubicBezTo>
                <a:cubicBezTo>
                  <a:pt x="14349" y="14921"/>
                  <a:pt x="14314" y="14956"/>
                  <a:pt x="14288" y="14982"/>
                </a:cubicBezTo>
                <a:cubicBezTo>
                  <a:pt x="14274" y="14997"/>
                  <a:pt x="14240" y="15007"/>
                  <a:pt x="14228" y="15022"/>
                </a:cubicBezTo>
                <a:cubicBezTo>
                  <a:pt x="14198" y="15060"/>
                  <a:pt x="14202" y="15070"/>
                  <a:pt x="14168" y="15081"/>
                </a:cubicBezTo>
                <a:cubicBezTo>
                  <a:pt x="14130" y="15094"/>
                  <a:pt x="14131" y="15083"/>
                  <a:pt x="14109" y="15101"/>
                </a:cubicBezTo>
                <a:cubicBezTo>
                  <a:pt x="14089" y="15117"/>
                  <a:pt x="14084" y="15119"/>
                  <a:pt x="14049" y="15121"/>
                </a:cubicBezTo>
                <a:cubicBezTo>
                  <a:pt x="14031" y="15122"/>
                  <a:pt x="13959" y="15135"/>
                  <a:pt x="13970" y="15101"/>
                </a:cubicBezTo>
                <a:cubicBezTo>
                  <a:pt x="13983" y="15088"/>
                  <a:pt x="13997" y="15074"/>
                  <a:pt x="14010" y="15061"/>
                </a:cubicBezTo>
              </a:path>
              <a:path w="4546" h="2660">
                <a:moveTo>
                  <a:pt x="14446" y="14704"/>
                </a:moveTo>
                <a:cubicBezTo>
                  <a:pt x="14476" y="14694"/>
                  <a:pt x="14515" y="14695"/>
                  <a:pt x="14545" y="14684"/>
                </a:cubicBezTo>
                <a:cubicBezTo>
                  <a:pt x="14579" y="14671"/>
                  <a:pt x="14612" y="14645"/>
                  <a:pt x="14645" y="14625"/>
                </a:cubicBezTo>
                <a:cubicBezTo>
                  <a:pt x="14687" y="14600"/>
                  <a:pt x="14728" y="14585"/>
                  <a:pt x="14764" y="14565"/>
                </a:cubicBezTo>
                <a:cubicBezTo>
                  <a:pt x="14795" y="14548"/>
                  <a:pt x="14812" y="14520"/>
                  <a:pt x="14843" y="14506"/>
                </a:cubicBezTo>
                <a:cubicBezTo>
                  <a:pt x="14875" y="14492"/>
                  <a:pt x="14911" y="14482"/>
                  <a:pt x="14942" y="14466"/>
                </a:cubicBezTo>
                <a:cubicBezTo>
                  <a:pt x="14982" y="14446"/>
                  <a:pt x="15020" y="14410"/>
                  <a:pt x="15061" y="14387"/>
                </a:cubicBezTo>
                <a:cubicBezTo>
                  <a:pt x="15098" y="14366"/>
                  <a:pt x="15125" y="14347"/>
                  <a:pt x="15161" y="14327"/>
                </a:cubicBezTo>
                <a:cubicBezTo>
                  <a:pt x="15201" y="14304"/>
                  <a:pt x="15246" y="14271"/>
                  <a:pt x="15280" y="14248"/>
                </a:cubicBezTo>
                <a:cubicBezTo>
                  <a:pt x="15323" y="14219"/>
                  <a:pt x="15358" y="14210"/>
                  <a:pt x="15399" y="14188"/>
                </a:cubicBezTo>
                <a:cubicBezTo>
                  <a:pt x="15439" y="14166"/>
                  <a:pt x="15479" y="14147"/>
                  <a:pt x="15518" y="14129"/>
                </a:cubicBezTo>
                <a:cubicBezTo>
                  <a:pt x="15568" y="14105"/>
                  <a:pt x="15608" y="14072"/>
                  <a:pt x="15657" y="14049"/>
                </a:cubicBezTo>
                <a:cubicBezTo>
                  <a:pt x="15703" y="14028"/>
                  <a:pt x="15752" y="14012"/>
                  <a:pt x="15796" y="13990"/>
                </a:cubicBezTo>
                <a:cubicBezTo>
                  <a:pt x="15845" y="13966"/>
                  <a:pt x="15890" y="13939"/>
                  <a:pt x="15935" y="13910"/>
                </a:cubicBezTo>
                <a:cubicBezTo>
                  <a:pt x="15982" y="13880"/>
                  <a:pt x="16026" y="13855"/>
                  <a:pt x="16073" y="13831"/>
                </a:cubicBezTo>
                <a:cubicBezTo>
                  <a:pt x="16124" y="13805"/>
                  <a:pt x="16193" y="13777"/>
                  <a:pt x="16232" y="13752"/>
                </a:cubicBezTo>
                <a:cubicBezTo>
                  <a:pt x="16282" y="13720"/>
                  <a:pt x="16322" y="13680"/>
                  <a:pt x="16371" y="13652"/>
                </a:cubicBezTo>
                <a:cubicBezTo>
                  <a:pt x="16396" y="13637"/>
                  <a:pt x="16444" y="13628"/>
                  <a:pt x="16470" y="13613"/>
                </a:cubicBezTo>
                <a:cubicBezTo>
                  <a:pt x="16521" y="13584"/>
                  <a:pt x="16556" y="13571"/>
                  <a:pt x="16609" y="13553"/>
                </a:cubicBezTo>
                <a:cubicBezTo>
                  <a:pt x="16617" y="13549"/>
                  <a:pt x="16663" y="13504"/>
                  <a:pt x="16689" y="13494"/>
                </a:cubicBezTo>
                <a:cubicBezTo>
                  <a:pt x="16714" y="13485"/>
                  <a:pt x="16744" y="13483"/>
                  <a:pt x="16768" y="13474"/>
                </a:cubicBezTo>
                <a:cubicBezTo>
                  <a:pt x="16807" y="13460"/>
                  <a:pt x="16802" y="13454"/>
                  <a:pt x="16828" y="13434"/>
                </a:cubicBezTo>
                <a:cubicBezTo>
                  <a:pt x="16855" y="13425"/>
                  <a:pt x="16879" y="13423"/>
                  <a:pt x="16907" y="13414"/>
                </a:cubicBezTo>
                <a:cubicBezTo>
                  <a:pt x="16924" y="13409"/>
                  <a:pt x="16947" y="13401"/>
                  <a:pt x="16966" y="13395"/>
                </a:cubicBezTo>
                <a:cubicBezTo>
                  <a:pt x="16982" y="13381"/>
                  <a:pt x="16995" y="13369"/>
                  <a:pt x="17026" y="13355"/>
                </a:cubicBezTo>
                <a:cubicBezTo>
                  <a:pt x="17035" y="13328"/>
                  <a:pt x="17035" y="13329"/>
                  <a:pt x="17046" y="13295"/>
                </a:cubicBezTo>
              </a:path>
              <a:path w="4546" h="2660">
                <a:moveTo>
                  <a:pt x="17363" y="12482"/>
                </a:moveTo>
                <a:cubicBezTo>
                  <a:pt x="17363" y="12746"/>
                  <a:pt x="17363" y="13011"/>
                  <a:pt x="17363" y="13275"/>
                </a:cubicBezTo>
              </a:path>
              <a:path w="4546" h="2660">
                <a:moveTo>
                  <a:pt x="17185" y="13077"/>
                </a:moveTo>
                <a:cubicBezTo>
                  <a:pt x="17298" y="13077"/>
                  <a:pt x="17421" y="13087"/>
                  <a:pt x="17522" y="13057"/>
                </a:cubicBezTo>
                <a:cubicBezTo>
                  <a:pt x="17579" y="13040"/>
                  <a:pt x="17644" y="13055"/>
                  <a:pt x="17681" y="13037"/>
                </a:cubicBezTo>
                <a:cubicBezTo>
                  <a:pt x="17688" y="13037"/>
                  <a:pt x="17694" y="13037"/>
                  <a:pt x="17701" y="13037"/>
                </a:cubicBezTo>
              </a:path>
              <a:path w="4546" h="2660">
                <a:moveTo>
                  <a:pt x="17740" y="13256"/>
                </a:moveTo>
                <a:cubicBezTo>
                  <a:pt x="17752" y="13207"/>
                  <a:pt x="17760" y="13177"/>
                  <a:pt x="17760" y="13117"/>
                </a:cubicBezTo>
                <a:cubicBezTo>
                  <a:pt x="17760" y="13014"/>
                  <a:pt x="17761" y="12910"/>
                  <a:pt x="17780" y="12819"/>
                </a:cubicBezTo>
                <a:cubicBezTo>
                  <a:pt x="17791" y="12767"/>
                  <a:pt x="17768" y="12743"/>
                  <a:pt x="17800" y="12700"/>
                </a:cubicBezTo>
                <a:cubicBezTo>
                  <a:pt x="17800" y="12661"/>
                  <a:pt x="17800" y="12825"/>
                  <a:pt x="17800" y="12859"/>
                </a:cubicBezTo>
                <a:cubicBezTo>
                  <a:pt x="17800" y="12950"/>
                  <a:pt x="17804" y="13038"/>
                  <a:pt x="17780" y="13117"/>
                </a:cubicBezTo>
                <a:cubicBezTo>
                  <a:pt x="17770" y="13150"/>
                  <a:pt x="17780" y="13201"/>
                  <a:pt x="17780" y="13236"/>
                </a:cubicBezTo>
                <a:cubicBezTo>
                  <a:pt x="17780" y="13285"/>
                  <a:pt x="17798" y="13151"/>
                  <a:pt x="17800" y="13137"/>
                </a:cubicBezTo>
                <a:cubicBezTo>
                  <a:pt x="17808" y="13076"/>
                  <a:pt x="17830" y="13029"/>
                  <a:pt x="17840" y="12978"/>
                </a:cubicBezTo>
                <a:cubicBezTo>
                  <a:pt x="17856" y="12900"/>
                  <a:pt x="17846" y="12887"/>
                  <a:pt x="17899" y="12819"/>
                </a:cubicBezTo>
                <a:cubicBezTo>
                  <a:pt x="17927" y="12782"/>
                  <a:pt x="17971" y="12741"/>
                  <a:pt x="17998" y="12720"/>
                </a:cubicBezTo>
                <a:cubicBezTo>
                  <a:pt x="18030" y="12695"/>
                  <a:pt x="18048" y="12717"/>
                  <a:pt x="18078" y="12700"/>
                </a:cubicBezTo>
                <a:cubicBezTo>
                  <a:pt x="18111" y="12682"/>
                  <a:pt x="18116" y="12680"/>
                  <a:pt x="18157" y="12680"/>
                </a:cubicBezTo>
                <a:cubicBezTo>
                  <a:pt x="18177" y="12680"/>
                  <a:pt x="18184" y="12680"/>
                  <a:pt x="18197" y="12680"/>
                </a:cubicBezTo>
              </a:path>
              <a:path w="4546" h="2660">
                <a:moveTo>
                  <a:pt x="18256" y="13295"/>
                </a:moveTo>
                <a:cubicBezTo>
                  <a:pt x="18282" y="13260"/>
                  <a:pt x="18276" y="13243"/>
                  <a:pt x="18276" y="13196"/>
                </a:cubicBezTo>
                <a:cubicBezTo>
                  <a:pt x="18304" y="13187"/>
                  <a:pt x="18296" y="13190"/>
                  <a:pt x="18296" y="13156"/>
                </a:cubicBezTo>
                <a:cubicBezTo>
                  <a:pt x="18326" y="13146"/>
                  <a:pt x="18316" y="13133"/>
                  <a:pt x="18316" y="13097"/>
                </a:cubicBezTo>
                <a:cubicBezTo>
                  <a:pt x="18316" y="13054"/>
                  <a:pt x="18329" y="13032"/>
                  <a:pt x="18336" y="12998"/>
                </a:cubicBezTo>
                <a:cubicBezTo>
                  <a:pt x="18346" y="12951"/>
                  <a:pt x="18336" y="12888"/>
                  <a:pt x="18336" y="128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21480" y="4579920"/>
            <a:ext cx="1258920" cy="42840"/>
          </a:xfrm>
          <a:custGeom>
            <a:avLst/>
            <a:gdLst/>
            <a:ahLst/>
            <a:rect l="l" t="t" r="r" b="b"/>
            <a:pathLst>
              <a:path w="3494" h="120">
                <a:moveTo>
                  <a:pt x="18395" y="12740"/>
                </a:moveTo>
                <a:cubicBezTo>
                  <a:pt x="18395" y="12733"/>
                  <a:pt x="18395" y="12727"/>
                  <a:pt x="18395" y="12720"/>
                </a:cubicBezTo>
              </a:path>
              <a:path w="3494" h="120">
                <a:moveTo>
                  <a:pt x="21888" y="12839"/>
                </a:moveTo>
                <a:lnTo>
                  <a:pt x="21888" y="12839"/>
                </a:lnTo>
              </a:path>
            </a:pathLst>
          </a:custGeom>
          <a:noFill/>
          <a:ln cap="rnd" w="34920">
            <a:solidFill>
              <a:srgbClr val="ff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
          <p:cNvSpPr/>
          <p:nvPr/>
        </p:nvSpPr>
        <p:spPr>
          <a:xfrm>
            <a:off x="6829560" y="4622760"/>
            <a:ext cx="385560" cy="399960"/>
          </a:xfrm>
          <a:custGeom>
            <a:avLst/>
            <a:gdLst/>
            <a:ahLst/>
            <a:rect l="l" t="t" r="r" b="b"/>
            <a:pathLst>
              <a:path w="1072" h="1112">
                <a:moveTo>
                  <a:pt x="19308" y="12918"/>
                </a:moveTo>
                <a:cubicBezTo>
                  <a:pt x="19280" y="12886"/>
                  <a:pt x="19286" y="12898"/>
                  <a:pt x="19248" y="12879"/>
                </a:cubicBezTo>
                <a:cubicBezTo>
                  <a:pt x="19236" y="12873"/>
                  <a:pt x="19221" y="12847"/>
                  <a:pt x="19189" y="12839"/>
                </a:cubicBezTo>
                <a:cubicBezTo>
                  <a:pt x="19152" y="12830"/>
                  <a:pt x="19054" y="12829"/>
                  <a:pt x="19030" y="12859"/>
                </a:cubicBezTo>
                <a:cubicBezTo>
                  <a:pt x="19012" y="12881"/>
                  <a:pt x="19002" y="12930"/>
                  <a:pt x="18990" y="12958"/>
                </a:cubicBezTo>
                <a:cubicBezTo>
                  <a:pt x="18978" y="12985"/>
                  <a:pt x="18973" y="13005"/>
                  <a:pt x="18971" y="13037"/>
                </a:cubicBezTo>
                <a:cubicBezTo>
                  <a:pt x="18968" y="13093"/>
                  <a:pt x="18971" y="13129"/>
                  <a:pt x="18990" y="13156"/>
                </a:cubicBezTo>
                <a:cubicBezTo>
                  <a:pt x="19001" y="13172"/>
                  <a:pt x="19022" y="13174"/>
                  <a:pt x="19050" y="13176"/>
                </a:cubicBezTo>
                <a:cubicBezTo>
                  <a:pt x="19112" y="13180"/>
                  <a:pt x="19201" y="13189"/>
                  <a:pt x="19248" y="13156"/>
                </a:cubicBezTo>
                <a:cubicBezTo>
                  <a:pt x="19278" y="13135"/>
                  <a:pt x="19299" y="13126"/>
                  <a:pt x="19328" y="13097"/>
                </a:cubicBezTo>
                <a:cubicBezTo>
                  <a:pt x="19352" y="13073"/>
                  <a:pt x="19351" y="13042"/>
                  <a:pt x="19368" y="13018"/>
                </a:cubicBezTo>
                <a:cubicBezTo>
                  <a:pt x="19389" y="12988"/>
                  <a:pt x="19400" y="12984"/>
                  <a:pt x="19407" y="12958"/>
                </a:cubicBezTo>
                <a:cubicBezTo>
                  <a:pt x="19407" y="12938"/>
                  <a:pt x="19407" y="12931"/>
                  <a:pt x="19407" y="12918"/>
                </a:cubicBezTo>
                <a:cubicBezTo>
                  <a:pt x="19440" y="12994"/>
                  <a:pt x="19458" y="13125"/>
                  <a:pt x="19467" y="13216"/>
                </a:cubicBezTo>
                <a:cubicBezTo>
                  <a:pt x="19480" y="13356"/>
                  <a:pt x="19473" y="13525"/>
                  <a:pt x="19447" y="13652"/>
                </a:cubicBezTo>
                <a:cubicBezTo>
                  <a:pt x="19434" y="13717"/>
                  <a:pt x="19381" y="13737"/>
                  <a:pt x="19348" y="13772"/>
                </a:cubicBezTo>
                <a:cubicBezTo>
                  <a:pt x="19298" y="13826"/>
                  <a:pt x="19266" y="13843"/>
                  <a:pt x="19209" y="13871"/>
                </a:cubicBezTo>
                <a:cubicBezTo>
                  <a:pt x="19146" y="13902"/>
                  <a:pt x="19112" y="13909"/>
                  <a:pt x="19050" y="13930"/>
                </a:cubicBezTo>
                <a:cubicBezTo>
                  <a:pt x="18993" y="13949"/>
                  <a:pt x="19020" y="13951"/>
                  <a:pt x="19010" y="13891"/>
                </a:cubicBezTo>
              </a:path>
              <a:path w="1072" h="1112">
                <a:moveTo>
                  <a:pt x="20022" y="12998"/>
                </a:moveTo>
                <a:cubicBezTo>
                  <a:pt x="19990" y="12974"/>
                  <a:pt x="19947" y="12965"/>
                  <a:pt x="19903" y="12938"/>
                </a:cubicBezTo>
                <a:cubicBezTo>
                  <a:pt x="19876" y="12921"/>
                  <a:pt x="19860" y="12910"/>
                  <a:pt x="19824" y="12918"/>
                </a:cubicBezTo>
                <a:cubicBezTo>
                  <a:pt x="19772" y="12930"/>
                  <a:pt x="19772" y="12974"/>
                  <a:pt x="19745" y="13018"/>
                </a:cubicBezTo>
                <a:cubicBezTo>
                  <a:pt x="19713" y="13070"/>
                  <a:pt x="19698" y="13099"/>
                  <a:pt x="19685" y="13156"/>
                </a:cubicBezTo>
                <a:cubicBezTo>
                  <a:pt x="19680" y="13181"/>
                  <a:pt x="19682" y="13242"/>
                  <a:pt x="19705" y="13256"/>
                </a:cubicBezTo>
                <a:cubicBezTo>
                  <a:pt x="19717" y="13264"/>
                  <a:pt x="19770" y="13273"/>
                  <a:pt x="19784" y="13275"/>
                </a:cubicBezTo>
                <a:cubicBezTo>
                  <a:pt x="19846" y="13283"/>
                  <a:pt x="19883" y="13305"/>
                  <a:pt x="19943" y="13315"/>
                </a:cubicBezTo>
                <a:cubicBezTo>
                  <a:pt x="19974" y="13320"/>
                  <a:pt x="20011" y="13315"/>
                  <a:pt x="20042" y="13315"/>
                </a:cubicBezTo>
                <a:cubicBezTo>
                  <a:pt x="20042" y="13183"/>
                  <a:pt x="20042" y="13050"/>
                  <a:pt x="20042" y="12918"/>
                </a:cubicBezTo>
                <a:cubicBezTo>
                  <a:pt x="20042" y="12971"/>
                  <a:pt x="20042" y="12984"/>
                  <a:pt x="20042" y="13037"/>
                </a:cubicBezTo>
                <a:cubicBezTo>
                  <a:pt x="20042" y="13183"/>
                  <a:pt x="20049" y="13340"/>
                  <a:pt x="20022" y="13474"/>
                </a:cubicBezTo>
                <a:cubicBezTo>
                  <a:pt x="20014" y="13516"/>
                  <a:pt x="20016" y="13519"/>
                  <a:pt x="19983" y="13553"/>
                </a:cubicBezTo>
                <a:cubicBezTo>
                  <a:pt x="19932" y="13605"/>
                  <a:pt x="19881" y="13649"/>
                  <a:pt x="19824" y="13692"/>
                </a:cubicBezTo>
                <a:cubicBezTo>
                  <a:pt x="19809" y="13704"/>
                  <a:pt x="19804" y="13719"/>
                  <a:pt x="19784" y="13732"/>
                </a:cubicBezTo>
                <a:cubicBezTo>
                  <a:pt x="19762" y="13747"/>
                  <a:pt x="19728" y="13741"/>
                  <a:pt x="19705" y="13752"/>
                </a:cubicBezTo>
                <a:cubicBezTo>
                  <a:pt x="19692" y="13759"/>
                  <a:pt x="19632" y="13784"/>
                  <a:pt x="19625" y="13791"/>
                </a:cubicBezTo>
                <a:cubicBezTo>
                  <a:pt x="19625" y="13798"/>
                  <a:pt x="19625" y="13804"/>
                  <a:pt x="19625" y="13811"/>
                </a:cubicBezTo>
                <a:cubicBezTo>
                  <a:pt x="19619" y="13777"/>
                  <a:pt x="19633" y="13754"/>
                  <a:pt x="19705" y="13712"/>
                </a:cubicBezTo>
                <a:cubicBezTo>
                  <a:pt x="19783" y="13673"/>
                  <a:pt x="19808" y="13660"/>
                  <a:pt x="19844" y="136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50120" y="4657680"/>
            <a:ext cx="1008000" cy="465120"/>
          </a:xfrm>
          <a:custGeom>
            <a:avLst/>
            <a:gdLst/>
            <a:ahLst/>
            <a:rect l="l" t="t" r="r" b="b"/>
            <a:pathLst>
              <a:path w="2799" h="1291">
                <a:moveTo>
                  <a:pt x="20419" y="13236"/>
                </a:moveTo>
                <a:cubicBezTo>
                  <a:pt x="20465" y="13236"/>
                  <a:pt x="20499" y="13248"/>
                  <a:pt x="20518" y="13256"/>
                </a:cubicBezTo>
                <a:cubicBezTo>
                  <a:pt x="20545" y="13268"/>
                  <a:pt x="20644" y="13263"/>
                  <a:pt x="20657" y="13236"/>
                </a:cubicBezTo>
                <a:cubicBezTo>
                  <a:pt x="20670" y="13209"/>
                  <a:pt x="20694" y="13198"/>
                  <a:pt x="20697" y="13176"/>
                </a:cubicBezTo>
                <a:cubicBezTo>
                  <a:pt x="20701" y="13140"/>
                  <a:pt x="20717" y="13120"/>
                  <a:pt x="20717" y="13077"/>
                </a:cubicBezTo>
                <a:cubicBezTo>
                  <a:pt x="20717" y="13046"/>
                  <a:pt x="20732" y="12976"/>
                  <a:pt x="20697" y="12958"/>
                </a:cubicBezTo>
                <a:cubicBezTo>
                  <a:pt x="20682" y="12951"/>
                  <a:pt x="20633" y="12943"/>
                  <a:pt x="20618" y="12938"/>
                </a:cubicBezTo>
                <a:cubicBezTo>
                  <a:pt x="20586" y="12927"/>
                  <a:pt x="20533" y="12938"/>
                  <a:pt x="20499" y="12938"/>
                </a:cubicBezTo>
                <a:cubicBezTo>
                  <a:pt x="20492" y="12987"/>
                  <a:pt x="20479" y="13005"/>
                  <a:pt x="20479" y="13057"/>
                </a:cubicBezTo>
                <a:cubicBezTo>
                  <a:pt x="20479" y="13148"/>
                  <a:pt x="20482" y="13236"/>
                  <a:pt x="20499" y="13315"/>
                </a:cubicBezTo>
                <a:cubicBezTo>
                  <a:pt x="20509" y="13361"/>
                  <a:pt x="20506" y="13390"/>
                  <a:pt x="20518" y="13414"/>
                </a:cubicBezTo>
                <a:cubicBezTo>
                  <a:pt x="20522" y="13422"/>
                  <a:pt x="20553" y="13490"/>
                  <a:pt x="20558" y="13494"/>
                </a:cubicBezTo>
                <a:cubicBezTo>
                  <a:pt x="20574" y="13507"/>
                  <a:pt x="20594" y="13537"/>
                  <a:pt x="20618" y="13553"/>
                </a:cubicBezTo>
                <a:cubicBezTo>
                  <a:pt x="20642" y="13568"/>
                  <a:pt x="20638" y="13554"/>
                  <a:pt x="20638" y="13593"/>
                </a:cubicBezTo>
                <a:cubicBezTo>
                  <a:pt x="20707" y="13602"/>
                  <a:pt x="20720" y="13633"/>
                  <a:pt x="20776" y="13652"/>
                </a:cubicBezTo>
                <a:cubicBezTo>
                  <a:pt x="20810" y="13664"/>
                  <a:pt x="20951" y="13662"/>
                  <a:pt x="20955" y="13633"/>
                </a:cubicBezTo>
                <a:cubicBezTo>
                  <a:pt x="20955" y="13613"/>
                  <a:pt x="20955" y="13606"/>
                  <a:pt x="20955" y="13593"/>
                </a:cubicBezTo>
              </a:path>
              <a:path w="2799" h="1291">
                <a:moveTo>
                  <a:pt x="21173" y="13633"/>
                </a:moveTo>
                <a:cubicBezTo>
                  <a:pt x="21141" y="13622"/>
                  <a:pt x="21136" y="13595"/>
                  <a:pt x="21134" y="13553"/>
                </a:cubicBezTo>
                <a:cubicBezTo>
                  <a:pt x="21126" y="13418"/>
                  <a:pt x="21115" y="13238"/>
                  <a:pt x="21153" y="13117"/>
                </a:cubicBezTo>
                <a:cubicBezTo>
                  <a:pt x="21160" y="13096"/>
                  <a:pt x="21153" y="13060"/>
                  <a:pt x="21153" y="13037"/>
                </a:cubicBezTo>
                <a:cubicBezTo>
                  <a:pt x="21153" y="13176"/>
                  <a:pt x="21120" y="13427"/>
                  <a:pt x="21173" y="13533"/>
                </a:cubicBezTo>
                <a:cubicBezTo>
                  <a:pt x="21186" y="13559"/>
                  <a:pt x="21193" y="13581"/>
                  <a:pt x="21193" y="13613"/>
                </a:cubicBezTo>
                <a:cubicBezTo>
                  <a:pt x="21193" y="13648"/>
                  <a:pt x="21205" y="13661"/>
                  <a:pt x="21213" y="13692"/>
                </a:cubicBezTo>
                <a:cubicBezTo>
                  <a:pt x="21213" y="13547"/>
                  <a:pt x="21179" y="13303"/>
                  <a:pt x="21233" y="13196"/>
                </a:cubicBezTo>
                <a:cubicBezTo>
                  <a:pt x="21236" y="13189"/>
                  <a:pt x="21265" y="13142"/>
                  <a:pt x="21272" y="13137"/>
                </a:cubicBezTo>
                <a:cubicBezTo>
                  <a:pt x="21291" y="13124"/>
                  <a:pt x="21320" y="13107"/>
                  <a:pt x="21352" y="13097"/>
                </a:cubicBezTo>
                <a:cubicBezTo>
                  <a:pt x="21380" y="13089"/>
                  <a:pt x="21406" y="13086"/>
                  <a:pt x="21431" y="13077"/>
                </a:cubicBezTo>
                <a:cubicBezTo>
                  <a:pt x="21498" y="13055"/>
                  <a:pt x="21613" y="13078"/>
                  <a:pt x="21669" y="13097"/>
                </a:cubicBezTo>
                <a:cubicBezTo>
                  <a:pt x="21676" y="13097"/>
                  <a:pt x="21682" y="13097"/>
                  <a:pt x="21689" y="13097"/>
                </a:cubicBezTo>
              </a:path>
              <a:path w="2799" h="1291">
                <a:moveTo>
                  <a:pt x="21788" y="13791"/>
                </a:moveTo>
                <a:cubicBezTo>
                  <a:pt x="21788" y="13664"/>
                  <a:pt x="21791" y="13529"/>
                  <a:pt x="21808" y="13414"/>
                </a:cubicBezTo>
                <a:cubicBezTo>
                  <a:pt x="21816" y="13363"/>
                  <a:pt x="21825" y="13322"/>
                  <a:pt x="21828" y="13275"/>
                </a:cubicBezTo>
                <a:cubicBezTo>
                  <a:pt x="21832" y="13203"/>
                  <a:pt x="21828" y="13129"/>
                  <a:pt x="21828" y="13057"/>
                </a:cubicBezTo>
              </a:path>
              <a:path w="2799" h="1291">
                <a:moveTo>
                  <a:pt x="22086" y="13692"/>
                </a:moveTo>
                <a:cubicBezTo>
                  <a:pt x="22086" y="13654"/>
                  <a:pt x="22072" y="13642"/>
                  <a:pt x="22066" y="13613"/>
                </a:cubicBezTo>
                <a:cubicBezTo>
                  <a:pt x="22027" y="13433"/>
                  <a:pt x="22066" y="13204"/>
                  <a:pt x="22066" y="13018"/>
                </a:cubicBezTo>
                <a:cubicBezTo>
                  <a:pt x="22083" y="13062"/>
                  <a:pt x="22101" y="13110"/>
                  <a:pt x="22106" y="13156"/>
                </a:cubicBezTo>
                <a:cubicBezTo>
                  <a:pt x="22112" y="13216"/>
                  <a:pt x="22110" y="13262"/>
                  <a:pt x="22126" y="13315"/>
                </a:cubicBezTo>
                <a:cubicBezTo>
                  <a:pt x="22166" y="13448"/>
                  <a:pt x="22126" y="13831"/>
                  <a:pt x="22126" y="13692"/>
                </a:cubicBezTo>
                <a:cubicBezTo>
                  <a:pt x="22126" y="13627"/>
                  <a:pt x="22121" y="13592"/>
                  <a:pt x="22106" y="13533"/>
                </a:cubicBezTo>
                <a:cubicBezTo>
                  <a:pt x="22087" y="13458"/>
                  <a:pt x="22104" y="13339"/>
                  <a:pt x="22126" y="13275"/>
                </a:cubicBezTo>
                <a:cubicBezTo>
                  <a:pt x="22137" y="13243"/>
                  <a:pt x="22166" y="13256"/>
                  <a:pt x="22205" y="13256"/>
                </a:cubicBezTo>
                <a:cubicBezTo>
                  <a:pt x="22310" y="13256"/>
                  <a:pt x="22429" y="13244"/>
                  <a:pt x="22523" y="13275"/>
                </a:cubicBezTo>
                <a:cubicBezTo>
                  <a:pt x="22557" y="13286"/>
                  <a:pt x="22576" y="13265"/>
                  <a:pt x="22582" y="13315"/>
                </a:cubicBezTo>
                <a:cubicBezTo>
                  <a:pt x="22588" y="13372"/>
                  <a:pt x="22548" y="13654"/>
                  <a:pt x="22602" y="13672"/>
                </a:cubicBezTo>
              </a:path>
              <a:path w="2799" h="1291">
                <a:moveTo>
                  <a:pt x="23217" y="13395"/>
                </a:moveTo>
                <a:cubicBezTo>
                  <a:pt x="23187" y="13377"/>
                  <a:pt x="23148" y="13370"/>
                  <a:pt x="23118" y="13355"/>
                </a:cubicBezTo>
                <a:cubicBezTo>
                  <a:pt x="23088" y="13340"/>
                  <a:pt x="23072" y="13322"/>
                  <a:pt x="23039" y="13315"/>
                </a:cubicBezTo>
                <a:cubicBezTo>
                  <a:pt x="23007" y="13308"/>
                  <a:pt x="22917" y="13304"/>
                  <a:pt x="22900" y="13335"/>
                </a:cubicBezTo>
                <a:cubicBezTo>
                  <a:pt x="22890" y="13353"/>
                  <a:pt x="22865" y="13414"/>
                  <a:pt x="22860" y="13434"/>
                </a:cubicBezTo>
                <a:cubicBezTo>
                  <a:pt x="22845" y="13493"/>
                  <a:pt x="22855" y="13603"/>
                  <a:pt x="22880" y="13633"/>
                </a:cubicBezTo>
                <a:cubicBezTo>
                  <a:pt x="22897" y="13654"/>
                  <a:pt x="22922" y="13668"/>
                  <a:pt x="22939" y="13672"/>
                </a:cubicBezTo>
                <a:cubicBezTo>
                  <a:pt x="22964" y="13679"/>
                  <a:pt x="23069" y="13686"/>
                  <a:pt x="23078" y="13652"/>
                </a:cubicBezTo>
                <a:cubicBezTo>
                  <a:pt x="23091" y="13604"/>
                  <a:pt x="23070" y="13580"/>
                  <a:pt x="23098" y="13533"/>
                </a:cubicBezTo>
                <a:cubicBezTo>
                  <a:pt x="23122" y="13491"/>
                  <a:pt x="23104" y="13460"/>
                  <a:pt x="23118" y="13414"/>
                </a:cubicBezTo>
                <a:cubicBezTo>
                  <a:pt x="23123" y="13399"/>
                  <a:pt x="23130" y="13351"/>
                  <a:pt x="23138" y="13335"/>
                </a:cubicBezTo>
                <a:cubicBezTo>
                  <a:pt x="23141" y="13328"/>
                  <a:pt x="23156" y="13283"/>
                  <a:pt x="23158" y="13315"/>
                </a:cubicBezTo>
                <a:cubicBezTo>
                  <a:pt x="23164" y="13428"/>
                  <a:pt x="23156" y="13552"/>
                  <a:pt x="23138" y="13652"/>
                </a:cubicBezTo>
                <a:cubicBezTo>
                  <a:pt x="23130" y="13694"/>
                  <a:pt x="23123" y="13757"/>
                  <a:pt x="23118" y="13791"/>
                </a:cubicBezTo>
                <a:cubicBezTo>
                  <a:pt x="23109" y="13848"/>
                  <a:pt x="23106" y="13857"/>
                  <a:pt x="23078" y="13910"/>
                </a:cubicBezTo>
                <a:cubicBezTo>
                  <a:pt x="23051" y="13961"/>
                  <a:pt x="23037" y="13997"/>
                  <a:pt x="23019" y="14049"/>
                </a:cubicBezTo>
                <a:cubicBezTo>
                  <a:pt x="23009" y="14079"/>
                  <a:pt x="22976" y="14168"/>
                  <a:pt x="22959" y="14188"/>
                </a:cubicBezTo>
                <a:cubicBezTo>
                  <a:pt x="22931" y="14220"/>
                  <a:pt x="22878" y="14226"/>
                  <a:pt x="22840" y="14228"/>
                </a:cubicBezTo>
                <a:cubicBezTo>
                  <a:pt x="22794" y="14231"/>
                  <a:pt x="22747" y="14228"/>
                  <a:pt x="22701" y="142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86760" y="5443560"/>
            <a:ext cx="1440" cy="7920"/>
          </a:xfrm>
          <a:custGeom>
            <a:avLst/>
            <a:gdLst/>
            <a:ahLst/>
            <a:rect l="l" t="t" r="r" b="b"/>
            <a:pathLst>
              <a:path w="1" h="21">
                <a:moveTo>
                  <a:pt x="20241" y="15141"/>
                </a:moveTo>
                <a:cubicBezTo>
                  <a:pt x="20241" y="15134"/>
                  <a:pt x="20241" y="15128"/>
                  <a:pt x="20241" y="15121"/>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 name=""/>
          <p:cNvSpPr/>
          <p:nvPr/>
        </p:nvSpPr>
        <p:spPr>
          <a:xfrm>
            <a:off x="6307200" y="5265720"/>
            <a:ext cx="1601640" cy="549360"/>
          </a:xfrm>
          <a:custGeom>
            <a:avLst/>
            <a:gdLst/>
            <a:ahLst/>
            <a:rect l="l" t="t" r="r" b="b"/>
            <a:pathLst>
              <a:path w="4446" h="1529">
                <a:moveTo>
                  <a:pt x="18296" y="14625"/>
                </a:moveTo>
                <a:cubicBezTo>
                  <a:pt x="18296" y="14709"/>
                  <a:pt x="18296" y="14780"/>
                  <a:pt x="18276" y="14863"/>
                </a:cubicBezTo>
                <a:cubicBezTo>
                  <a:pt x="18259" y="14933"/>
                  <a:pt x="18236" y="14969"/>
                  <a:pt x="18236" y="15042"/>
                </a:cubicBezTo>
                <a:cubicBezTo>
                  <a:pt x="18236" y="15095"/>
                  <a:pt x="18225" y="15138"/>
                  <a:pt x="18217" y="15180"/>
                </a:cubicBezTo>
                <a:cubicBezTo>
                  <a:pt x="18209" y="15223"/>
                  <a:pt x="18210" y="15242"/>
                  <a:pt x="18197" y="15280"/>
                </a:cubicBezTo>
                <a:cubicBezTo>
                  <a:pt x="18187" y="15309"/>
                  <a:pt x="18174" y="15357"/>
                  <a:pt x="18157" y="15379"/>
                </a:cubicBezTo>
                <a:cubicBezTo>
                  <a:pt x="18130" y="15413"/>
                  <a:pt x="18100" y="15454"/>
                  <a:pt x="18078" y="15478"/>
                </a:cubicBezTo>
                <a:cubicBezTo>
                  <a:pt x="18048" y="15511"/>
                  <a:pt x="18040" y="15516"/>
                  <a:pt x="17998" y="15518"/>
                </a:cubicBezTo>
                <a:cubicBezTo>
                  <a:pt x="17910" y="15523"/>
                  <a:pt x="17708" y="15552"/>
                  <a:pt x="17641" y="15498"/>
                </a:cubicBezTo>
                <a:cubicBezTo>
                  <a:pt x="17612" y="15474"/>
                  <a:pt x="17600" y="15443"/>
                  <a:pt x="17582" y="15419"/>
                </a:cubicBezTo>
                <a:cubicBezTo>
                  <a:pt x="17551" y="15378"/>
                  <a:pt x="17530" y="15330"/>
                  <a:pt x="17522" y="15280"/>
                </a:cubicBezTo>
                <a:cubicBezTo>
                  <a:pt x="17514" y="15235"/>
                  <a:pt x="17515" y="15174"/>
                  <a:pt x="17542" y="15141"/>
                </a:cubicBezTo>
                <a:cubicBezTo>
                  <a:pt x="17567" y="15109"/>
                  <a:pt x="17642" y="15093"/>
                  <a:pt x="17681" y="15081"/>
                </a:cubicBezTo>
                <a:cubicBezTo>
                  <a:pt x="17725" y="15067"/>
                  <a:pt x="17777" y="15073"/>
                  <a:pt x="17820" y="15061"/>
                </a:cubicBezTo>
                <a:cubicBezTo>
                  <a:pt x="17862" y="15050"/>
                  <a:pt x="17876" y="15044"/>
                  <a:pt x="17919" y="15042"/>
                </a:cubicBezTo>
                <a:cubicBezTo>
                  <a:pt x="17967" y="15040"/>
                  <a:pt x="17999" y="15041"/>
                  <a:pt x="18038" y="15061"/>
                </a:cubicBezTo>
                <a:cubicBezTo>
                  <a:pt x="18074" y="15080"/>
                  <a:pt x="18094" y="15095"/>
                  <a:pt x="18117" y="15101"/>
                </a:cubicBezTo>
                <a:cubicBezTo>
                  <a:pt x="18147" y="15109"/>
                  <a:pt x="18169" y="15109"/>
                  <a:pt x="18197" y="15121"/>
                </a:cubicBezTo>
                <a:cubicBezTo>
                  <a:pt x="18229" y="15135"/>
                  <a:pt x="18270" y="15145"/>
                  <a:pt x="18296" y="15161"/>
                </a:cubicBezTo>
                <a:cubicBezTo>
                  <a:pt x="18330" y="15182"/>
                  <a:pt x="18336" y="15175"/>
                  <a:pt x="18375" y="15180"/>
                </a:cubicBezTo>
              </a:path>
              <a:path w="4446" h="1529">
                <a:moveTo>
                  <a:pt x="18494" y="15339"/>
                </a:moveTo>
                <a:cubicBezTo>
                  <a:pt x="18615" y="15339"/>
                  <a:pt x="18789" y="15369"/>
                  <a:pt x="18891" y="15319"/>
                </a:cubicBezTo>
                <a:cubicBezTo>
                  <a:pt x="18940" y="15295"/>
                  <a:pt x="18970" y="15258"/>
                  <a:pt x="19010" y="15220"/>
                </a:cubicBezTo>
                <a:cubicBezTo>
                  <a:pt x="19031" y="15201"/>
                  <a:pt x="19041" y="15147"/>
                  <a:pt x="19050" y="15121"/>
                </a:cubicBezTo>
                <a:cubicBezTo>
                  <a:pt x="19065" y="15076"/>
                  <a:pt x="19027" y="15064"/>
                  <a:pt x="18990" y="15061"/>
                </a:cubicBezTo>
                <a:cubicBezTo>
                  <a:pt x="18935" y="15057"/>
                  <a:pt x="18897" y="15066"/>
                  <a:pt x="18852" y="15081"/>
                </a:cubicBezTo>
                <a:cubicBezTo>
                  <a:pt x="18822" y="15091"/>
                  <a:pt x="18797" y="15099"/>
                  <a:pt x="18772" y="15121"/>
                </a:cubicBezTo>
                <a:cubicBezTo>
                  <a:pt x="18747" y="15144"/>
                  <a:pt x="18718" y="15145"/>
                  <a:pt x="18693" y="15161"/>
                </a:cubicBezTo>
                <a:cubicBezTo>
                  <a:pt x="18671" y="15175"/>
                  <a:pt x="18665" y="15176"/>
                  <a:pt x="18653" y="15200"/>
                </a:cubicBezTo>
                <a:cubicBezTo>
                  <a:pt x="18643" y="15220"/>
                  <a:pt x="18635" y="15245"/>
                  <a:pt x="18633" y="15260"/>
                </a:cubicBezTo>
                <a:cubicBezTo>
                  <a:pt x="18630" y="15286"/>
                  <a:pt x="18606" y="15286"/>
                  <a:pt x="18594" y="15319"/>
                </a:cubicBezTo>
                <a:cubicBezTo>
                  <a:pt x="18575" y="15373"/>
                  <a:pt x="18601" y="15449"/>
                  <a:pt x="18613" y="15498"/>
                </a:cubicBezTo>
                <a:cubicBezTo>
                  <a:pt x="18623" y="15540"/>
                  <a:pt x="18643" y="15532"/>
                  <a:pt x="18673" y="15558"/>
                </a:cubicBezTo>
                <a:cubicBezTo>
                  <a:pt x="18685" y="15568"/>
                  <a:pt x="18711" y="15595"/>
                  <a:pt x="18732" y="15617"/>
                </a:cubicBezTo>
                <a:cubicBezTo>
                  <a:pt x="18744" y="15630"/>
                  <a:pt x="18799" y="15673"/>
                  <a:pt x="18812" y="15677"/>
                </a:cubicBezTo>
                <a:cubicBezTo>
                  <a:pt x="18848" y="15688"/>
                  <a:pt x="18892" y="15712"/>
                  <a:pt x="18931" y="15716"/>
                </a:cubicBezTo>
                <a:cubicBezTo>
                  <a:pt x="18982" y="15721"/>
                  <a:pt x="19017" y="15756"/>
                  <a:pt x="19070" y="15756"/>
                </a:cubicBezTo>
                <a:cubicBezTo>
                  <a:pt x="19105" y="15756"/>
                  <a:pt x="19101" y="15757"/>
                  <a:pt x="19129" y="15736"/>
                </a:cubicBezTo>
              </a:path>
              <a:path w="4446" h="1529">
                <a:moveTo>
                  <a:pt x="19288" y="15240"/>
                </a:moveTo>
                <a:cubicBezTo>
                  <a:pt x="19293" y="15252"/>
                  <a:pt x="19301" y="15311"/>
                  <a:pt x="19308" y="15319"/>
                </a:cubicBezTo>
                <a:cubicBezTo>
                  <a:pt x="19360" y="15375"/>
                  <a:pt x="19318" y="15352"/>
                  <a:pt x="19348" y="15419"/>
                </a:cubicBezTo>
                <a:cubicBezTo>
                  <a:pt x="19359" y="15443"/>
                  <a:pt x="19376" y="15476"/>
                  <a:pt x="19387" y="15498"/>
                </a:cubicBezTo>
                <a:cubicBezTo>
                  <a:pt x="19409" y="15543"/>
                  <a:pt x="19444" y="15556"/>
                  <a:pt x="19467" y="15597"/>
                </a:cubicBezTo>
                <a:cubicBezTo>
                  <a:pt x="19482" y="15624"/>
                  <a:pt x="19507" y="15648"/>
                  <a:pt x="19526" y="15677"/>
                </a:cubicBezTo>
                <a:cubicBezTo>
                  <a:pt x="19545" y="15707"/>
                  <a:pt x="19568" y="15752"/>
                  <a:pt x="19586" y="15776"/>
                </a:cubicBezTo>
                <a:cubicBezTo>
                  <a:pt x="19601" y="15796"/>
                  <a:pt x="19600" y="15775"/>
                  <a:pt x="19606" y="15815"/>
                </a:cubicBezTo>
                <a:cubicBezTo>
                  <a:pt x="19622" y="15799"/>
                  <a:pt x="19630" y="15785"/>
                  <a:pt x="19645" y="15756"/>
                </a:cubicBezTo>
                <a:cubicBezTo>
                  <a:pt x="19677" y="15696"/>
                  <a:pt x="19679" y="15636"/>
                  <a:pt x="19705" y="15577"/>
                </a:cubicBezTo>
                <a:cubicBezTo>
                  <a:pt x="19731" y="15518"/>
                  <a:pt x="19759" y="15471"/>
                  <a:pt x="19784" y="15419"/>
                </a:cubicBezTo>
                <a:cubicBezTo>
                  <a:pt x="19820" y="15344"/>
                  <a:pt x="19829" y="15312"/>
                  <a:pt x="19864" y="15240"/>
                </a:cubicBezTo>
                <a:cubicBezTo>
                  <a:pt x="19876" y="15215"/>
                  <a:pt x="19888" y="15163"/>
                  <a:pt x="19903" y="15141"/>
                </a:cubicBezTo>
                <a:cubicBezTo>
                  <a:pt x="19927" y="15107"/>
                  <a:pt x="19958" y="15070"/>
                  <a:pt x="19983" y="15042"/>
                </a:cubicBezTo>
                <a:cubicBezTo>
                  <a:pt x="20004" y="15018"/>
                  <a:pt x="19997" y="14942"/>
                  <a:pt x="20022" y="14962"/>
                </a:cubicBezTo>
                <a:cubicBezTo>
                  <a:pt x="20055" y="14962"/>
                  <a:pt x="20062" y="14975"/>
                  <a:pt x="20042" y="15022"/>
                </a:cubicBezTo>
              </a:path>
              <a:path w="4446" h="1529">
                <a:moveTo>
                  <a:pt x="20102" y="15796"/>
                </a:moveTo>
                <a:cubicBezTo>
                  <a:pt x="20109" y="15796"/>
                  <a:pt x="20115" y="15796"/>
                  <a:pt x="20122" y="15796"/>
                </a:cubicBezTo>
                <a:cubicBezTo>
                  <a:pt x="20134" y="15734"/>
                  <a:pt x="20171" y="15681"/>
                  <a:pt x="20181" y="15617"/>
                </a:cubicBezTo>
                <a:cubicBezTo>
                  <a:pt x="20188" y="15571"/>
                  <a:pt x="20201" y="15547"/>
                  <a:pt x="20201" y="15498"/>
                </a:cubicBezTo>
                <a:cubicBezTo>
                  <a:pt x="20201" y="15462"/>
                  <a:pt x="20221" y="15437"/>
                  <a:pt x="20221" y="15399"/>
                </a:cubicBezTo>
                <a:cubicBezTo>
                  <a:pt x="20221" y="15355"/>
                  <a:pt x="20212" y="15319"/>
                  <a:pt x="20241" y="15300"/>
                </a:cubicBezTo>
              </a:path>
              <a:path w="4446" h="1529">
                <a:moveTo>
                  <a:pt x="20995" y="15359"/>
                </a:moveTo>
                <a:cubicBezTo>
                  <a:pt x="20901" y="15359"/>
                  <a:pt x="20871" y="15361"/>
                  <a:pt x="20796" y="15399"/>
                </a:cubicBezTo>
                <a:cubicBezTo>
                  <a:pt x="20748" y="15423"/>
                  <a:pt x="20705" y="15466"/>
                  <a:pt x="20657" y="15498"/>
                </a:cubicBezTo>
                <a:cubicBezTo>
                  <a:pt x="20604" y="15534"/>
                  <a:pt x="20595" y="15572"/>
                  <a:pt x="20558" y="15617"/>
                </a:cubicBezTo>
                <a:cubicBezTo>
                  <a:pt x="20537" y="15643"/>
                  <a:pt x="20485" y="15683"/>
                  <a:pt x="20479" y="15696"/>
                </a:cubicBezTo>
                <a:cubicBezTo>
                  <a:pt x="20460" y="15733"/>
                  <a:pt x="20491" y="15765"/>
                  <a:pt x="20499" y="15776"/>
                </a:cubicBezTo>
                <a:cubicBezTo>
                  <a:pt x="20517" y="15801"/>
                  <a:pt x="20569" y="15839"/>
                  <a:pt x="20578" y="15855"/>
                </a:cubicBezTo>
                <a:cubicBezTo>
                  <a:pt x="20598" y="15889"/>
                  <a:pt x="20591" y="15895"/>
                  <a:pt x="20638" y="15895"/>
                </a:cubicBezTo>
                <a:cubicBezTo>
                  <a:pt x="20695" y="15895"/>
                  <a:pt x="20741" y="15881"/>
                  <a:pt x="20796" y="15875"/>
                </a:cubicBezTo>
                <a:cubicBezTo>
                  <a:pt x="20875" y="15866"/>
                  <a:pt x="20922" y="15838"/>
                  <a:pt x="20995" y="15815"/>
                </a:cubicBezTo>
                <a:cubicBezTo>
                  <a:pt x="21022" y="15807"/>
                  <a:pt x="21066" y="15815"/>
                  <a:pt x="21094" y="15815"/>
                </a:cubicBezTo>
              </a:path>
              <a:path w="4446" h="1529">
                <a:moveTo>
                  <a:pt x="21431" y="15597"/>
                </a:moveTo>
                <a:cubicBezTo>
                  <a:pt x="21431" y="15617"/>
                  <a:pt x="21431" y="15624"/>
                  <a:pt x="21431" y="15637"/>
                </a:cubicBezTo>
                <a:cubicBezTo>
                  <a:pt x="21528" y="15637"/>
                  <a:pt x="21641" y="15654"/>
                  <a:pt x="21729" y="15617"/>
                </a:cubicBezTo>
                <a:cubicBezTo>
                  <a:pt x="21780" y="15596"/>
                  <a:pt x="21843" y="15569"/>
                  <a:pt x="21888" y="15538"/>
                </a:cubicBezTo>
                <a:cubicBezTo>
                  <a:pt x="21917" y="15518"/>
                  <a:pt x="21931" y="15485"/>
                  <a:pt x="21947" y="15458"/>
                </a:cubicBezTo>
                <a:cubicBezTo>
                  <a:pt x="21958" y="15439"/>
                  <a:pt x="21973" y="15406"/>
                  <a:pt x="21967" y="15379"/>
                </a:cubicBezTo>
                <a:cubicBezTo>
                  <a:pt x="21958" y="15342"/>
                  <a:pt x="21929" y="15328"/>
                  <a:pt x="21888" y="15319"/>
                </a:cubicBezTo>
                <a:cubicBezTo>
                  <a:pt x="21855" y="15312"/>
                  <a:pt x="21821" y="15304"/>
                  <a:pt x="21788" y="15300"/>
                </a:cubicBezTo>
                <a:cubicBezTo>
                  <a:pt x="21754" y="15295"/>
                  <a:pt x="21735" y="15299"/>
                  <a:pt x="21709" y="15319"/>
                </a:cubicBezTo>
                <a:cubicBezTo>
                  <a:pt x="21681" y="15341"/>
                  <a:pt x="21664" y="15361"/>
                  <a:pt x="21650" y="15379"/>
                </a:cubicBezTo>
                <a:cubicBezTo>
                  <a:pt x="21637" y="15396"/>
                  <a:pt x="21619" y="15429"/>
                  <a:pt x="21590" y="15458"/>
                </a:cubicBezTo>
                <a:cubicBezTo>
                  <a:pt x="21560" y="15488"/>
                  <a:pt x="21549" y="15530"/>
                  <a:pt x="21530" y="15558"/>
                </a:cubicBezTo>
                <a:cubicBezTo>
                  <a:pt x="21517" y="15577"/>
                  <a:pt x="21498" y="15585"/>
                  <a:pt x="21491" y="15617"/>
                </a:cubicBezTo>
                <a:cubicBezTo>
                  <a:pt x="21480" y="15663"/>
                  <a:pt x="21461" y="15710"/>
                  <a:pt x="21451" y="15756"/>
                </a:cubicBezTo>
                <a:cubicBezTo>
                  <a:pt x="21440" y="15806"/>
                  <a:pt x="21462" y="15854"/>
                  <a:pt x="21471" y="15875"/>
                </a:cubicBezTo>
                <a:cubicBezTo>
                  <a:pt x="21487" y="15914"/>
                  <a:pt x="21498" y="15946"/>
                  <a:pt x="21530" y="15974"/>
                </a:cubicBezTo>
                <a:cubicBezTo>
                  <a:pt x="21546" y="15988"/>
                  <a:pt x="21629" y="16048"/>
                  <a:pt x="21650" y="16054"/>
                </a:cubicBezTo>
                <a:cubicBezTo>
                  <a:pt x="21697" y="16068"/>
                  <a:pt x="21747" y="16091"/>
                  <a:pt x="21788" y="16113"/>
                </a:cubicBezTo>
                <a:cubicBezTo>
                  <a:pt x="21818" y="16129"/>
                  <a:pt x="21840" y="16120"/>
                  <a:pt x="21868" y="16133"/>
                </a:cubicBezTo>
                <a:cubicBezTo>
                  <a:pt x="21868" y="16153"/>
                  <a:pt x="21868" y="16160"/>
                  <a:pt x="21888" y="161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aterials</a:t>
            </a:r>
            <a:endParaRPr b="1" lang="en-US" sz="4400" spc="-1" strike="noStrike">
              <a:solidFill>
                <a:srgbClr val="000000"/>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 Tape, Popsicle Sticks, Rubber Bands, </a:t>
            </a:r>
            <a:endParaRPr b="0" lang="en-US" sz="32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s and Cons</a:t>
            </a:r>
            <a:endParaRPr b="1" lang="en-US" sz="4400" spc="-1" strike="noStrike">
              <a:solidFill>
                <a:srgbClr val="0000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 Tape: sticky, un-reusable, removable, somewhat strong</a:t>
            </a:r>
            <a:endParaRPr b="0" lang="en-US" sz="3200" spc="-1" strike="noStrike">
              <a:solidFill>
                <a:srgbClr val="000000"/>
              </a:solidFill>
              <a:latin typeface="Arial"/>
            </a:endParaRPr>
          </a:p>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sicle Sticks: weak, reusable, sturdy</a:t>
            </a:r>
            <a:endParaRPr b="0" lang="en-US" sz="3200" spc="-1" strike="noStrike">
              <a:solidFill>
                <a:srgbClr val="000000"/>
              </a:solidFill>
              <a:latin typeface="Arial"/>
            </a:endParaRPr>
          </a:p>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Bands: strong, reusable, flexible </a:t>
            </a:r>
            <a:endParaRPr b="0" lang="en-US" sz="3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21:05:30Z</dcterms:created>
  <dc:creator>Daniel Nicholas Anderson</dc:creator>
  <dc:description/>
  <dc:language>en-US</dc:language>
  <cp:lastModifiedBy>Daniel Nicholas Anderson</cp:lastModifiedBy>
  <dcterms:modified xsi:type="dcterms:W3CDTF">2011-10-09T22:10:43Z</dcterms:modified>
  <cp:revision>8</cp:revision>
  <dc:subject/>
  <dc:title>Storm the Castle</dc:title>
</cp:coreProperties>
</file>